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B17-F0BA-4AC0-B60A-FE126E1F94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7ACA-5784-4013-B6C6-FDE134E739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8300-ACC1-4B07-AA89-07CB7783F5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5E05-D772-4829-934E-CDCA33B108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FD5-B036-4A8F-9373-0ED11BD5BC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73F7-E73C-49F8-87FF-A3A6591F3D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2263-AA11-413B-B2FD-36F7014099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2505-FD23-4588-A671-5B9917D2CC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A96C-B173-4E5C-A65F-079F63D8CD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BE67-BC90-4DDB-90E9-ACC2B0FCF2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5FF9-0E0C-46B4-8E8E-4ADFF84D11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336C-90B8-47CC-A5A7-C464757B10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EF1D-B6E6-43B2-A918-A51F710669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DCBB-C537-4725-B360-24395CCBF0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D8EF-F818-46A3-BB31-D648F0BA2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E344-A100-4356-BB11-1A4A98C39B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B9D5-2019-4319-9B55-67537F24047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90DF0-F13C-4BD2-9DA8-6A37C1FA3BB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24585-EA7D-434F-ABE1-07D0C44352E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D157B-6860-4339-BF41-2E66D1D0DA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8EC3-192F-4EA3-B7A5-5BCF1CABF4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CA434-1B08-42A4-B7E6-23E3EA0F21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EC4A6-971D-4F42-B3A9-C379BFF4951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D88AE-EA85-487A-9FE9-30A69A096B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4D059-B781-4537-8A9F-55F6182D2D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ABB91-B4F5-4159-A6B3-BA1ACCDE6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E82A-1A08-430D-A1CD-40D45C4B65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4FD08-1045-406C-BB33-A4369F7E5A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E604E-D572-44AF-82C2-7721F820495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349B7-27AE-4D3B-B83A-FDB4C176688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0C606-F2F4-4F29-B1E8-9DC8BF3EC5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63D3B-4567-484D-B6DD-2115207628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73026-59C0-4889-953B-E249F89A2A3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05350-0F42-4A58-BA96-B4E8F8F1B5D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B7A24-D8CD-4800-80EE-1963F5ECA21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9B27E-FEAD-402B-B52B-83DBF72DA94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476E7-D6ED-4022-8755-FBE384577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7C7B-9516-44A4-8863-2144B56B30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A677B-8C71-420A-948F-33041DBC57D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26DC18-AABF-4E81-91C1-E5EAF42B866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034B88-2880-472B-9414-4834798F029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3E3022-E599-41A5-A095-4B168E7C163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DE12EE-69C8-44D7-8A7B-DF017B880F3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02599-B348-435F-AD9A-DEE64A414C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31246-F127-402F-A83F-0301D47CA49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81F6EA-752E-4F56-B386-D99E693BF1C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721BBD-F3D8-4C8D-B1C9-25AB4E3304B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4BC9F0-1F16-4C79-84CC-C1B7E567C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CD977-23FF-4F0C-B61A-175136884D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891E6A-4F53-4172-9805-73BF47ABAD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F6F02B-3CDE-45E6-8781-74A9E3581ED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458C0E-FCEB-44D7-B576-D033BE6D4ED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A8B48-1476-42E2-9D05-BE19AEE5256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2E94C-5FA6-4454-A2A0-E4A6A057A6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3458E-E77C-4F63-BA69-E1D4D144D5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9560B-AF6B-44C1-A48D-2F6BE8B383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075D8-0782-46BA-B130-D431AB83AD3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35341-0A53-46AE-916C-C8204D62490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656BD-B9F7-4306-8D67-87D1220A2D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14DBA-A016-4550-8653-A819C17C90A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C9E97-D1E3-42AD-B09E-A96D687CD9F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8366C-FD6D-48E3-9EF9-9E8E8D26F68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5AD1A-19B6-43BE-93B8-25C8A855177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9E808-DEE2-4BC3-8C13-79705BE7925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049E0-4A2F-4DDE-A2DA-7AFC02FB713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B79684-4634-4668-B8D0-1A526FC9BC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94432-1B2A-44E5-9511-1943ECDE573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B2BD0D-2C23-4A02-A1C9-1EBB8A943AB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074FFE-490E-480F-96EE-A1B338F9A80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8C71EC-A2AF-4D3C-8106-9E71B62620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DFF5E-2161-4860-A30C-87A6BF833F5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93B59-4E26-4711-926A-5A5C9FD0ED0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AB1420-8E95-42F7-8B44-16219E33007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E17F3B-6412-4AE0-954B-FA126DB0185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F4B97D-9F6C-40AE-B50C-143BF2DF667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063D6-632C-448A-BC11-E2E5FF96323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76F03B-3689-46AE-9500-61BDD6BF4F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7AF7E1-19C5-4709-98C2-8174F859CA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3278C-462C-4BE5-9B40-334298D096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C079F-9F01-4697-B330-A0DB6F8EED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75561-B706-4364-8057-2FDC6E3C1D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B70B6-9F83-4B2D-A130-4C090E1B8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995C-EC02-4720-A413-63D4B0A0B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B9FC4-6C8B-46CB-99AD-0A12D9E61B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C0E62-ECF2-4707-B8DE-918054DDFB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6314B-8073-4E17-B632-063BF6CEFE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67CD4-65D9-4F90-9B86-847D982EDA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EB20A-D60D-4266-82FC-62FF1F8282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EDE4-7BF1-4A60-8AC0-DD79009974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1084-65D8-49E4-A302-D74533947A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87E-7527-404E-A8B0-5F260F7D7D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64E2-A682-44C9-8A3A-CE9920B40C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5E3C-1D43-42CC-814A-DB96915EDB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5D2A-3604-48FD-B588-990D6A4229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0D18-601D-4BBA-8F0A-A3E79ED893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D61-B8D1-41DA-B2B9-94B7E22021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B155-3BAA-420D-9F3D-8E87F58BBB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1A41-F171-4FF7-8DC9-01EE56B694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2E35-E901-4C8F-A33D-BD05D628B8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7043-36D4-46F1-A3BB-BFADAF9C24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65B3-41D8-47AD-8344-AFF95444C1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A760D-2278-4C97-8CF1-D42AC9957F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BD491-5505-4C20-9DA6-512E7268D4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EAFC7-1464-453D-A7DB-C48B25186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4A1D-B27C-4870-AADA-1FC54F00CB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6CDA7-4307-4981-8B36-FAC2E63942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EC523-110A-4936-BF9A-4BD66488DA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58F43-DF12-48E7-8FA3-40E1E9F9B4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258B8-D4A2-45F3-B2DF-87C1BF01D4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2971D-49D9-4AAB-9DF3-FEFC26712A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864D4-1107-4FB1-A857-47B6F308B7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39072-AD69-46D9-A231-A5C8842563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39580-60EA-4C3A-BEA8-DC331A24FA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52D5E-706B-484B-AF11-19334520FA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9F2F2-6E62-4025-98EB-8630D1B9F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85B8-123C-4382-91E1-46C09C622B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C48C7-33F3-490C-93CF-CBBFA48132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D3AD1-D518-4912-9411-EFDA78EBAA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76C5B-FBBF-4F96-9FB4-D74C4B376B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C57B9-8F58-46A2-B858-7BF46F2CE96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5E58D-13D6-4971-A649-EC0ABD5E36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959F7-5C12-4712-9E0F-F09426EA978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A54A2-CEB7-45A4-8BCD-51299D082D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D912A-5C15-417A-A4C8-139C6CF993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0432C-44AD-44A6-8A8D-DAC05C7CAA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2A754-DBFE-431C-A4DE-EC4A4717B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17F3-0003-4329-BC5F-DBEF0F9FD7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68F16-F019-4A4A-90DD-EC074C13A4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0A0A3-A7CD-416C-9C25-5E5A03C843D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674BB-8D94-4B0C-A226-FF3056684D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1AED-FFE8-46B0-BCE7-29B50F8DAE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1A5F-4EEE-4948-974F-D7CD56DF17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198D-A2A2-4A0F-A706-4C632909F2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52B9-0D37-4712-BF05-90553719DB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7B2A-F573-4C4E-91FC-50B5D6BC8A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00BE-96E1-4AA9-9F81-4FE9400904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07F6-850F-43F4-9923-F50134883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0795-4490-4887-92BA-48ABB1FDBD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379D-D22F-4B38-B7C5-005701354DC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6214-F106-4524-9FFD-AF3B153D393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DC7E-4729-4D21-8731-E0C0A4BE7BF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7A11B-A0DE-4A5E-B567-F1D72372161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7970E-8ED1-4430-8629-C9E966C4FBE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D01E7-888C-4510-BBE8-409E944DD7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55DE5-B09D-4D7A-A173-EA4F33A3D5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305C2-0CCD-4552-8F3E-5F25030142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50ECE-32D6-4F65-80AB-8DF5E857AF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FC5F0-A7C1-4C6B-A1CC-ECC5AC0F1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FDB2-7F37-4D87-9B13-EA89DF9F3A0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963F2-6574-48C5-8FEC-3F726B8DBC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A7C1C-FCF8-4572-9A25-B3E1B34EF2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521B2-E9E7-40DB-BF39-3D47224666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59B9A-ABB8-48C8-A799-7AB140DE86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CCEB3-5C12-4E7A-8690-42B8B0B1DF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65F94F-0394-42F9-A973-28003F99A0A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F78F43-6C49-4F85-B74D-A10BE6CA57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0E373-0C91-4DB2-8D1A-F7F036619BF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426035-E93C-4528-A6A9-5166AD4CCAD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7AF2A0-E3CB-40A0-A277-E055F8E39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7FBB-18F9-443B-9BF5-C261ED85CF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CB7D1-6EC3-4D96-80AF-2D0C2891ABF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4BE6F8-9BF0-4A03-ABF2-D6197D40435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A605D7-6110-483C-9188-E45DC766F41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8C891A-32DB-4179-8A4C-49162D157BD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8F950-1128-450F-80F2-B70FAC912D7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5CEF74-DCCB-4E0F-9879-D492771968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01548A-09D2-4C82-B0F3-3FD011FAB5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3CB4C-2CD1-4AD9-A7C5-0176710E86E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6DEE1-DBD5-4E0C-8084-8BFAA8DC017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9CB52-523A-4AF2-929F-56A0D0A87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F7D5-D6AF-4AAF-A35A-05110C91FB9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2E42-0E8E-445B-B541-6CCDE235012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1A9B-DEF2-4B77-9402-C7819AD96DC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548F-C424-4B07-AAD0-B8388B56934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8A21-42C4-465F-AD84-3B2EAC79885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7B82-2307-4F7D-9923-CA8E3F48CF7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912F-9708-40D2-BE4C-EEC3C4288A6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3D86-55CF-4F28-907E-BCD9BF74933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ECB0-EA17-4BB6-B2C3-47CC44580C1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C7F6-4CD7-4694-BAEE-B63C6C2B4EA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7000-050F-49EB-941F-F6C7623DCF1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09B9-B3F7-4C79-AB28-32C23E540B4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B21F-02A0-46A5-AB99-9F6A478B0D4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3928-BEC3-4CD1-9916-125F3D4CB81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1 – Concepts for SoA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4971-A94C-4ADD-AC21-79B36CE3F57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usiness Perspectiv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30120" y="2234880"/>
            <a:ext cx="84456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 every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benefits from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in business drivers and the expected RoI for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 no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technology fo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 sake of the technolo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EBDE-B09B-4567-929F-2A657CEE6B1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SoA Maturity Model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turity models en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440" indent="-417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ganizations to assess and improve their capabilities and operational performa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440" indent="-417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ppliers to position their product systems, tools and applications and to identify new opportun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Open Group’s Service Integration Maturity Model is one such comprehensive frame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EF29-0E18-4732-9DC4-9102D0057F2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ultiple services, systems and si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lexibility and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eterogeneit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homogene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siness process optimis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should be a part of 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ase Stud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racle’s Enterpris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tudent Administration Integration Portal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(SAIP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fferent approaches by which SMEs use SoA to driv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Amazon Web Services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o extend the capabilities of a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0199-9155-4342-81B2-E48C81D0ECA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re Technolog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Web Services approach based upon XML, SOAP,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st practice based on the WS-I Basic Profile and support Profi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 about SOAP vs REST-full approach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, and separation, of interfaces and protocols to create flexible design for 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CB42-10CC-4668-B9FA-8F4FB39770A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C0F3-6159-419E-8BAE-6A725015F80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72960" y="2234880"/>
            <a:ext cx="82756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-oriented Architecture (SoA) defines how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ervices interac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o achieve a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usiness object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technology for SOA use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b Service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d on XML, SOAP and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1E62-39CE-4166-A285-30A988A3823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1A7B-926D-434B-9746-3517C91EA9B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roduce Service-oriented Architecture and explain its relationship to current best practices in terms of IT service provision and business ope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Service-oriented Architecture can be used to drive technical innovation and support business process chang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9BC6-1845-4873-A797-025D945DA23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at is SoA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-oriented Architecture (SoA) defines how two or more services interact to enable one service to perform work on behalf of another service.  Each service interaction is self-contained and loosely coupled, so that each interaction remains independent of any other interaction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6937-B8B0-42E5-AB31-B264321356D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y is SoA Important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business models and business opportunit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ables business integration without requiring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homogene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ables the use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n-demand service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o reduce cos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duces the likelihood of th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ne-stop-shop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implifies technology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4FE-37A1-48AF-9DFB-6D260E88D94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en Should SoA Be Used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enable enterprise integration of disparate IT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increase efficiency between business part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increase productivity by improving access to 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leverage existing enterprise asse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enable flexibility for rapid response to market change or new competi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o is Adopting SoA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74840" y="2196720"/>
            <a:ext cx="399096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pplier Persp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rge system suppliers targeting smaller us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mall system suppliers targeting Enterprise us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18080" y="2196720"/>
            <a:ext cx="39924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’s Persp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/Medium organisations with integration ne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Es requiring new business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s needing low cost service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8133-BEA5-4798-87CC-A0660E53CED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A9CD-8896-4C62-AEA4-4849256D44E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ere Should SoA Be Used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verywhere (almost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ifference between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O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o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pen and proprietary approach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al-time and embedded systems 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nd-alone tools, applications and systems 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6D54-C2FC-4B9A-BD2A-33D3B6403E4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How is SoA Achieved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st systems use Web Services which is a combination of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AP messa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ypertext Transport Protocol (HTTP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 alternative lightweight approach, termed Web-oriented Architecture (WoA) uses RE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AC26-67B3-4024-B089-1FF717B3016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Gartner Technology Cycl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1570680" y="787392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Gartner: http://www.gartn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13"/>
          <p:cNvGrpSpPr/>
          <p:nvPr/>
        </p:nvGrpSpPr>
        <p:grpSpPr>
          <a:xfrm>
            <a:off x="888480" y="2646000"/>
            <a:ext cx="7417440" cy="4232880"/>
            <a:chOff x="888480" y="2646000"/>
            <a:chExt cx="7417440" cy="4232880"/>
          </a:xfrm>
        </p:grpSpPr>
        <p:cxnSp>
          <p:nvCxnSpPr>
            <p:cNvPr id="670" name="Straight Arrow Connector 8"/>
            <p:cNvCxnSpPr/>
            <p:nvPr/>
          </p:nvCxnSpPr>
          <p:spPr>
            <a:xfrm>
              <a:off x="888480" y="6877080"/>
              <a:ext cx="74178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71" name="Straight Arrow Connector 10"/>
            <p:cNvCxnSpPr/>
            <p:nvPr/>
          </p:nvCxnSpPr>
          <p:spPr>
            <a:xfrm flipV="1">
              <a:off x="900360" y="2646000"/>
              <a:ext cx="13320" cy="4231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72" name="TextBox 14"/>
          <p:cNvSpPr/>
          <p:nvPr/>
        </p:nvSpPr>
        <p:spPr>
          <a:xfrm>
            <a:off x="7369560" y="688356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15"/>
          <p:cNvSpPr/>
          <p:nvPr/>
        </p:nvSpPr>
        <p:spPr>
          <a:xfrm>
            <a:off x="196200" y="210816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traight Connector 17"/>
          <p:cNvSpPr/>
          <p:nvPr/>
        </p:nvSpPr>
        <p:spPr>
          <a:xfrm>
            <a:off x="896760" y="6265800"/>
            <a:ext cx="7340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traight Connector 19"/>
          <p:cNvSpPr/>
          <p:nvPr/>
        </p:nvSpPr>
        <p:spPr>
          <a:xfrm flipH="1">
            <a:off x="1657440" y="2668680"/>
            <a:ext cx="1440" cy="358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reeform 39"/>
          <p:cNvSpPr/>
          <p:nvPr/>
        </p:nvSpPr>
        <p:spPr>
          <a:xfrm>
            <a:off x="1066680" y="2806560"/>
            <a:ext cx="7180560" cy="3195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traight Connector 40"/>
          <p:cNvSpPr/>
          <p:nvPr/>
        </p:nvSpPr>
        <p:spPr>
          <a:xfrm flipH="1">
            <a:off x="2495520" y="2693880"/>
            <a:ext cx="1440" cy="358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traight Connector 41"/>
          <p:cNvSpPr/>
          <p:nvPr/>
        </p:nvSpPr>
        <p:spPr>
          <a:xfrm flipH="1">
            <a:off x="7203600" y="2693880"/>
            <a:ext cx="1800" cy="358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traight Connector 42"/>
          <p:cNvSpPr/>
          <p:nvPr/>
        </p:nvSpPr>
        <p:spPr>
          <a:xfrm flipH="1">
            <a:off x="4747680" y="2693880"/>
            <a:ext cx="1800" cy="358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Box 43"/>
          <p:cNvSpPr/>
          <p:nvPr/>
        </p:nvSpPr>
        <p:spPr>
          <a:xfrm>
            <a:off x="7209360" y="619776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au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44"/>
          <p:cNvSpPr/>
          <p:nvPr/>
        </p:nvSpPr>
        <p:spPr>
          <a:xfrm>
            <a:off x="4843440" y="61722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ope of Enlighte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Box 45"/>
          <p:cNvSpPr/>
          <p:nvPr/>
        </p:nvSpPr>
        <p:spPr>
          <a:xfrm>
            <a:off x="2481120" y="619776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ugh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illusi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46"/>
          <p:cNvSpPr/>
          <p:nvPr/>
        </p:nvSpPr>
        <p:spPr>
          <a:xfrm>
            <a:off x="7323120" y="4224240"/>
            <a:ext cx="203040" cy="203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47"/>
          <p:cNvSpPr/>
          <p:nvPr/>
        </p:nvSpPr>
        <p:spPr>
          <a:xfrm>
            <a:off x="1049400" y="7526160"/>
            <a:ext cx="203040" cy="203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48"/>
          <p:cNvSpPr/>
          <p:nvPr/>
        </p:nvSpPr>
        <p:spPr>
          <a:xfrm>
            <a:off x="7307280" y="24433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50"/>
          <p:cNvSpPr/>
          <p:nvPr/>
        </p:nvSpPr>
        <p:spPr>
          <a:xfrm>
            <a:off x="7424640" y="3301920"/>
            <a:ext cx="0" cy="9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51"/>
          <p:cNvSpPr/>
          <p:nvPr/>
        </p:nvSpPr>
        <p:spPr>
          <a:xfrm>
            <a:off x="5122800" y="5138640"/>
            <a:ext cx="203400" cy="203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Box 52"/>
          <p:cNvSpPr/>
          <p:nvPr/>
        </p:nvSpPr>
        <p:spPr>
          <a:xfrm>
            <a:off x="5118120" y="2811600"/>
            <a:ext cx="8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53"/>
          <p:cNvSpPr/>
          <p:nvPr/>
        </p:nvSpPr>
        <p:spPr>
          <a:xfrm flipH="1">
            <a:off x="5213520" y="3362400"/>
            <a:ext cx="144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55"/>
          <p:cNvSpPr/>
          <p:nvPr/>
        </p:nvSpPr>
        <p:spPr>
          <a:xfrm>
            <a:off x="3411360" y="7535880"/>
            <a:ext cx="203400" cy="203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56"/>
          <p:cNvSpPr/>
          <p:nvPr/>
        </p:nvSpPr>
        <p:spPr>
          <a:xfrm>
            <a:off x="3429000" y="5122800"/>
            <a:ext cx="203040" cy="203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traight Connector 57"/>
          <p:cNvSpPr/>
          <p:nvPr/>
        </p:nvSpPr>
        <p:spPr>
          <a:xfrm flipH="1">
            <a:off x="3546000" y="3328920"/>
            <a:ext cx="1800" cy="17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58"/>
          <p:cNvSpPr/>
          <p:nvPr/>
        </p:nvSpPr>
        <p:spPr>
          <a:xfrm>
            <a:off x="2463840" y="244332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oriented Business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Box 60"/>
          <p:cNvSpPr/>
          <p:nvPr/>
        </p:nvSpPr>
        <p:spPr>
          <a:xfrm>
            <a:off x="888840" y="692640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s to mainstream ad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Box 61"/>
          <p:cNvSpPr/>
          <p:nvPr/>
        </p:nvSpPr>
        <p:spPr>
          <a:xfrm>
            <a:off x="1333440" y="7370640"/>
            <a:ext cx="23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Box 62"/>
          <p:cNvSpPr/>
          <p:nvPr/>
        </p:nvSpPr>
        <p:spPr>
          <a:xfrm>
            <a:off x="3720960" y="73706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2:33:52Z</dcterms:created>
  <dc:creator>C Smythe</dc:creator>
  <dc:description/>
  <dc:language>en-US</dc:language>
  <cp:lastModifiedBy>Colin Smythe</cp:lastModifiedBy>
  <cp:lastPrinted>2009-04-30T12:36:57Z</cp:lastPrinted>
  <dcterms:modified xsi:type="dcterms:W3CDTF">2009-06-15T07:48:58Z</dcterms:modified>
  <cp:revision>264</cp:revision>
  <dc:subject/>
  <dc:title>No Slide Title</dc:title>
</cp:coreProperties>
</file>