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DAD7-C9AD-4D5E-9663-7239AB935F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9618-1D72-453F-8FE1-D7DADEAC55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904D-9F32-4B2F-BF66-640960C4C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731-8926-43BB-AC03-4813C6ECB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F86C-6BD4-4499-8BD9-2BCC6A98AC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8AB5-AF46-4578-9484-1E5AA146E3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E34C-EBCA-4372-B501-E3DBDBF8F5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7CE-9C14-46B4-BAD0-608A78B938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C49-D737-4311-9613-52E5FE5F02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7DE2-6342-4E15-A20F-9F9E8B8258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F75-F5C3-4CE3-8798-26D1029C34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3C51-33D8-492D-A791-841B9943B2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6211-3E41-4467-8580-2C25826A3C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6D5-1245-4A9B-BDC6-B72E188314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4721A-67C0-4330-85F8-32C06AF1C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D9F8-7ABB-4522-B477-50C2969E2B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680C3-11B5-4E53-BDAE-FCE590BCCC8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D0596-7453-4CBB-9E44-8577584CE0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0AD40-D536-455D-978A-21796A954A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6DC29-AEFC-41AA-B05C-9300B8D29F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F4C2A-E6B3-43C2-AC1F-DB2FA604DB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DB278-9EF4-41C2-A38A-14BDC141CC0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19F6-214B-4969-8B9C-249CF0774B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718AE-381B-4C1A-A308-AC27444D727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0E8E-CDCC-45A2-9B2A-D7B3CB0A38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A1E46-91D7-4F44-A5BD-73089B431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656E-C9D6-413F-8C03-CC0971907CD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8BA14-6AC2-4B79-A925-D7E4E24B4A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66A47D-CE63-4DB3-BC89-B025D4C84A0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6A187-FD2D-4DFF-838E-E4345CBEA8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8AC11C-DA91-4287-B5F8-C0372596D24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3A9D0-8E53-4174-8D3D-602E7442807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D4C1C-9708-479D-A12B-6058BC8D62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B8B6F-1A0F-4291-B871-6B9F0C22D7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B134D-95CC-4F2F-A6B2-2B04AC0D351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2E51B-33CF-44CC-97A4-1F8CF7F4CA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7A7DF-79A9-4467-AC91-43608C70B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7280-2AF6-4A47-A7AA-80CBFD7170A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12680-0121-4B3B-B650-75B809F444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6A3366-A464-4D64-AD32-DA04CDB5CE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5DD091-6F15-4445-A44E-67C5D7917B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FE6A0D-1352-44D4-A4A4-49F557FB56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4C2A7C-8134-4650-82A8-EA34E4E4C6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BDE3F5-0360-44E5-8339-8CCA61FDB5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F7429-3E88-4E42-A7E0-C166630900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8A68F2-48C0-434E-A466-6E0A0D2DA9B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57FAE9-DE87-4136-B29F-ABEF0BD574E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169AD6-DD1F-4C6A-A1B4-D2C71936D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A06C-73E6-4403-95B7-48D0C734356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DA5A9-9750-456F-8174-D97D52C1B75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82D902-9CA6-4DDF-A8CB-2D9A9335397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431058-314A-466C-A3BB-6C1616C2DE1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8DB6-4B66-4979-9126-C13123D21D7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DC056-F52C-437C-B465-04E7E80EB2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9260-AC9E-4FF0-BF85-1C7554014C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C5EC-1521-41EF-B4BE-2C3F9B9FA5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3ABF-8427-4F5F-9BEA-1D50254721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10E70-AF32-4ECD-9E2A-24B2AAA87A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D5D2A-16CE-42A5-AD97-E850DC3AE3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E9A8C-8121-47B0-A86E-F04897E5C3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8191F-4931-44FE-8E7B-CBAC635378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861BE-EEB0-4899-8FF6-405A604FC2D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D8F20-9CA4-4F52-ADF8-12A808BC22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CF6B-1013-456D-BB29-EF8BF7EC898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753B-E33E-495A-8FFC-40ECBF2C6E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A301F4-DFCE-4ED2-9F41-08B1B9CD0D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E1D1B-2E94-4B15-AD95-79EC50CF78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83433-6898-424D-A987-5088E8D255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569DB1-651A-4CD9-B988-35B2BFE49E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A053C-EBE0-4A12-9FE4-7E329829C0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5A3E7-CE9E-46C4-B370-E95230DDA4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0EBB2B-A8F7-4319-8297-89984F9679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57258-4A78-49B2-B62B-E3400CBDACA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139343-DFDC-4BE2-BE31-28BFD2DF8F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BD661A-D2D2-45A5-8460-CA180EB844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9D6F5-2022-4CF9-ADCE-C6F9C5C02FC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C5599C-3154-4719-BABD-1E334A8478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4B4E1-53ED-46D8-A19D-4BD3E206B7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BDE08-8CF7-42A0-9D76-14A17ADF2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97A80-ACF1-47BD-8EA6-A421D33E38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4FD67-DA20-43D4-A262-85877F3A1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ED67D-A8C6-41EC-9971-025573A4C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E8F3-579B-44C0-94D8-A0D4E8EE7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8E165-3758-4A54-B5DA-1AF9890AB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FA126-9156-480B-90F5-526B1C50DE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B31D4-EF87-4D69-A153-FD8D041297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3231E-266F-4E0F-B210-2FB432DE5D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58BF0-08A8-4C55-84C0-77F326D2B05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0C96-806F-491C-B8E1-DF0BC1DC18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48C3-EDD4-4910-9686-EF26FF28D5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20C-41D6-4CC7-9938-9301BB8B1C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691-DC28-44C4-90C1-7E3C9CA86C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60CB-0D68-4415-9221-CE6401215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EBEF-8CBB-497C-8CB5-F9F6BF8E69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7E0-01EC-4539-9A88-BF5F82948C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05B7-0BA4-41F7-8CC3-F7E41956EB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06D4-6479-4320-A6A2-44E71CA0DA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28E8-E322-4DBC-9BF6-4509475C8B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53A1-EE3E-4C12-B63D-1818D5C513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3607-9453-40E1-A00E-3C55D5EBE7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A62C-D242-4CD8-ABDB-E655EDC0D0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5FA49-B6EB-4FE9-9975-51200D9C26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C9F36-9973-4039-ACEF-EEAE9AEA7B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D7332-A5EE-4476-8E5A-F8BF4A58F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30DA-1562-434D-BD5C-93DC34EEC9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05E93-9F94-49C5-9872-5F8DE15924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9C105-C437-4814-B5AE-3A9C4529B0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A396A-5C04-4705-9B25-94E2143F25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04A2A5-2422-4265-B335-7827E0F62B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7B1C6-45FF-482D-872B-5EAAFBCEE7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30321-84E8-447C-A075-EFA7BFA4A2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9DFD4-3683-4A83-B9C2-333115F75D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C6F80-87FF-4A81-AACB-170888617D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30331-B9B1-4D5B-8A02-99D27C76F3B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9048CA-F713-4597-AF39-3FAC33508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621D-6058-4CEE-93F9-1C4A954211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54BE9-E01E-48C9-99B9-9D68AD00A27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F1CF7-A1D9-4A9B-BC0F-FDD1142A5E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1D15B-DDB7-45C5-BBFA-075598BDB5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FF3A17-3A26-462F-B1A6-523637D736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D34C9-FB93-4136-8852-2EBD51EE2E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4902-DF54-458E-A4CE-5168DA4FD5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E530C-3205-416D-BB97-854837FC4F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18E15D-C462-406F-BC1B-2BC929F710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C8803-2448-4F72-8A37-10F9840C49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08EF4-F366-4DFE-B1A3-3EF9812B1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FCCA-8FEB-4668-8596-D97238AFD25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3CDC42-FF5F-4E7D-ADFF-8E1F73EC47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D903-D058-489C-93AA-6A3CF1EA20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7F61-BF75-4CA7-8A3F-3AEBF43B36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2A0F-7E21-4FBE-B4E4-653B6BA22B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A3070-0C72-4C83-A41A-8119DF2841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ECA5-9AA3-4253-9FE6-D2C2E40174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30BF-B669-4F96-A9A5-17EC24C7D0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7E1A-FBB2-4E4C-A26D-A79B51208C1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F78E-3AAC-4220-A0C6-FF49AE0247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E18E-836F-4A00-86DF-A9E2CBE5F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2110F-6BB9-493B-BEA8-E43D823887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5DF4-0B89-4E92-834D-0C695034BA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0875-1506-4745-8D3E-8E4D4F5007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A597-C642-43AA-B4A7-959E237C0BC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CB705-5B04-43A4-8A6F-1AFDBB0043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4AF4-51FC-4DDB-A625-F1F631F5EF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CDD4A-D803-44B5-975F-616CCF2F67B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BC125-D0DC-472A-90A2-EA982C084A4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5AC22-3E6F-40BF-970F-2A5DBCC04F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31310-2008-4730-8FD5-93A969C509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966BC-B2AD-46DB-AFB4-0F3B92B4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9D03-408B-4F39-8168-033F46116A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2AAB6-5BDB-4CC3-9BF5-FEEE264FB6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E2739-C6E1-428C-9ADB-B1D6B441762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9962A-2F7C-4F59-A53E-A62C4C134F9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CCB14-B5F3-4051-87AF-F406EEC36A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91C77-4B23-45AE-BF40-F178E1FA61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4608F0-6113-494B-A22E-B98E7E8E3C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347B9E-F799-475A-82E7-4FADB7B0913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6D067E-77FB-4054-A747-1B83EB9553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A18C0-42EB-4BC3-9F71-95C6CE6D4B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1F4EEF-B42F-4DAE-AE77-BA21412F0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04E3C-C5CB-4AC0-9D8D-13EB2AC88C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F1FE00-C5E6-46A1-AB71-D02AA9E70BD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C3307-72B1-4722-801D-E6E06D8F271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545586-CEED-4AF7-81D4-4880D7FB3F1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4AE2BC-9871-49AD-9220-B3F7FC95958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CC21A-7C4B-4DC3-A684-FAAD57C620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8C673E-3214-4E6A-B4E4-AF40EEF136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036E57-0F52-42A1-AD01-E59DD8B42D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1A6B-0C2F-4C7E-9091-0500B1CD490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B663F-BB09-4BB3-B293-5EB646D41F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C96C7-9DE1-4303-BDBB-3E52D7765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774E-2DF8-45E9-8906-ECCD430638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373-AC60-419F-AC71-A5AA1195E81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CAA-0298-4E0F-8D38-FC13DB75E9B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DFD1-DA15-40D8-901A-7DCACE5ED34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F455-CB9C-48A8-857D-64371CB9158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F8BD-4B3D-4A25-8250-AAEEB729537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6DD-466A-4D78-A418-95FBAA2247C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F49-7BFB-43D4-BADB-BAB6F4BF32E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2874-935D-4435-B0C2-83881F6E318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EE28-42EF-49DE-8138-1B9E2396565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931-6AC9-4047-8908-522E865574E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8455-0CDF-4591-B8F4-CB5675FF860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32F6-22E4-4ADD-AE26-505C28A355D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D4E-6AD3-4744-B7DF-AB30DA2110F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2 – The Business Perspective &amp; Opportunities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858D-7263-4559-96BC-190F634AAC4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Product Mi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volution or evolution (consider the architectural implications)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do new clients require and what will old clients suffer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and define key service interfaces (internal and exter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ill be the support and maintenance implica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Web-based updat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8C31-37CA-4B43-BA66-38176907546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rocess Modelling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derstand the operational processes of the organ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del the business processes and identify information flow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ptimise the model and identify the operational cha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fine how the operational changes are to be realised (inc. the technology changes e.g. SoA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hange Manage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10760" y="2196720"/>
            <a:ext cx="432612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s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placement of manual processes by computer-based proces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void the natural negative reaction to new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rticipate in the requirements specif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618080" y="2171520"/>
            <a:ext cx="399240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veloper Foc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service-oriented desig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ine the development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sult users throughout the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D8B8-0575-4591-8DB2-69C2DD8CF81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turn on Investmen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duplication of operational activities and information stor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maintenance and upgrade costs via remote user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uce reporting and auditing costs with increased accuracy and timeliness of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enue opportunities through new services and featur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CD9D-25C8-4C68-BCFD-A2B550E8E61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echnology Considera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74840" y="2234880"/>
            <a:ext cx="822456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owser-based User Interfa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ervice Bu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oud Compu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rtual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ftware as a Service (S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tform as a Service (P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rastructure as a Service (IAAS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9B5F-E53E-406A-BCE5-564E04BEA0C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C215-7B99-48DC-9479-9A26C1A045B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43080" y="2234880"/>
            <a:ext cx="83944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A0A-9975-4B09-BCEE-1219DF80AB5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AB9F-4F7B-43DC-8299-B5585D752AB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474840" y="2235240"/>
            <a:ext cx="813564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the business process issues to be considered when preparing to adopt So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when and why SoA ma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e the answer to a business IT problem and how to identify when/where SoA can be of benef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to identify the possibl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turn on Invest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mmercial Impera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4560" y="2196720"/>
            <a:ext cx="426708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ce product cycle times and development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xpansion into new markets (large and smal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creased need for Enterprise integ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618080" y="2171520"/>
            <a:ext cx="4132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Pro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flexibility for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erprise integration due to increased compli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ongevity and reduce cos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C7F5-7D05-4B78-A919-7AC317E28B7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8EA-5534-441F-AD29-C828F836941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quisition and mergers driving business and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udit demands of corporate governance and complia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reasing market competition and need to identify new marke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ments to increase efficiency and effective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12A1-7CF0-4C15-9ECF-B057A215A73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Horses for Courses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i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he solution when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a small percentage of an organization’s IT budget is spent on integration activ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majority of an organization’s processes are manual, with little opportunity for auto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440" indent="-435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eration of an organization is managed by ERP applications with little or no integration requirem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788-0E2C-4401-86B9-4E29F23B807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Divide &amp; Conquer”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 service ha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igh cohesion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low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business proces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transaction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ed of the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use existing services whenever possible, create as a last res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onsider reusability when designing a new serv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73D-7935-487A-9B9C-673417A382B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 Design Paradig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dardised Se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vice Con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rvice Loose Coupl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bstra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Reu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Autonom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Statelessn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Discover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 Compos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B7AB-72D7-4BC5-9C4F-121A6502641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Interoperabil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ability to connect together system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withou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requiring new integration development 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moves the need for homogeneity but still requires consistent semantics for inform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quires a set of well define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internal and external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2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61E-B7C9-4736-8091-215812D6A6E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Open Solution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74480" y="2235240"/>
            <a:ext cx="8135640" cy="61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nce an interface has been defined and the service realised, should the interface be revealed as an API and/or WSDL fi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encourage other products to integrate with your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s – become the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interface standard for a business sec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o – to maintain proprietary advant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8:28:14Z</dcterms:created>
  <dc:creator>C Smythe</dc:creator>
  <dc:description/>
  <dc:language>en-US</dc:language>
  <cp:lastModifiedBy>Colin Smythe</cp:lastModifiedBy>
  <cp:lastPrinted>2008-02-19T11:08:18Z</cp:lastPrinted>
  <dcterms:modified xsi:type="dcterms:W3CDTF">2009-07-03T13:04:12Z</dcterms:modified>
  <cp:revision>263</cp:revision>
  <dc:subject/>
  <dc:title>No Slide Title</dc:title>
</cp:coreProperties>
</file>