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9CF6-3A55-4A22-A268-0FB9964B6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7D8-813E-48F9-A438-EC3DDEE060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6B05-D4D1-478B-BDC4-330E8306B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14D-6825-4D33-A0FD-C290F7ABF6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E3E-11CB-45FF-AFD2-7B5D211CB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E179-3DA6-4401-8A57-F72A9AF1F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B73-6957-4EAD-A400-F5AFD3FD6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000D-CB1A-4D36-BC6F-0054EF810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0438-EECD-458B-A507-C5E2C85FAC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1CC-71B7-40E4-B0C7-9EF5348B26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737-FA98-45FC-A94D-A8F7785A3F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481-F042-479C-8878-00FCADD0E1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14A1-2903-4821-8D8C-CCFC8F3389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E48-B03A-46CE-B4F2-BA25CC1B45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BC07-B9F8-4C04-BCD8-C0958DD29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77F5-E740-4473-A876-07E48975A3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F734-C3A8-4E1A-A0E8-86D0B1B68B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DCFB-A414-481A-9A9B-69F68DC504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5AA1-FC05-4027-A771-A814DC1365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A93F-D30B-44E6-801E-6FC407C7C9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9543E-6A42-4D04-9A38-AAADE58FC1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8218E-5606-4B75-81D7-D5D399F74B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84D1-F1E4-4AE9-9772-916399E247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638B-60A0-4E3A-B712-A01FDF8774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9140-DB1E-43D8-AFEF-9384E199EE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63723-8744-4CE0-8E87-1E75878C4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39EE-28E7-4D3F-A629-C6B261059CC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3FB6E-304D-4A9A-9525-2B33A19C3D5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CD817-52D7-4ABC-9641-CF0CADCA1A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88F97-42DA-4D25-9760-13C97436BC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3A464-5548-4032-AC25-ECF38D2B1A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F6655-6276-4B08-BEAF-B3CB818984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C8C5C-5456-43C4-B18B-AE00396931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B15ED-9FE9-4026-8A70-341AB18868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A190E-52FF-4343-926F-38D93781CF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3325E-4F79-44F3-9109-05D4185DAF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C2C8B-AAAF-44EE-B547-C80C3D9CF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3322-76B3-447E-975E-8501C1B89F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EF726-460E-45B2-AAE3-28DD1EE6BFA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FA0CD-D904-4DAF-A454-00B0FCC9FD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D2890-8EE3-4455-9006-13E5B3683D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BD3D3-7875-46E5-BF00-74A2603F42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392535-D004-422C-940D-81E2E75C8B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BEDBB-8600-4304-BE86-8CCDFCC74D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1600E8-BD0C-43CD-86A9-D3059FDDD7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2A8225-9D97-4F84-A38C-7763C3AA9C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59F70-C8DB-4D79-872C-4CA7FEFD3B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C41662-437D-4359-A0F0-5CD69F0AD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79577-0EF8-421D-93ED-C6F9D6E3AD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7C43F-F38D-4DC4-B4F9-1E7ADF7906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BEFAC-D561-4FDC-BD6E-9216E33C22F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C1A3DF-6EDD-4636-A489-213FD757A1A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6300C-B11B-4FB7-AD06-42D9A5369F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D587-6715-4E69-A356-BA90D2BE71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3446E-577C-47D7-881A-E35812F1AB7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3ADD0-3D88-4D41-8A21-E94F522DBD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6B39-3EA3-44EA-BD29-287E36776D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F704A-5820-4E1C-9F39-27417F198D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9E68-7809-4C31-BF6B-A3702EA52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D6BA3-D3C6-403A-B752-098EC8ED5E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9FD3-9ED0-41D4-AF55-77991EDC70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EE83-6190-4955-AB0E-198D372A154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2FF6-5051-4430-820D-CB49B0BA7B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7B6E-3A56-4E44-ABB3-CB7226657A7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04F6-097F-4FCE-A145-5B88ED7AF8E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708BC-BBCE-4FAF-8408-D78540E605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724176-C592-4024-9C20-C2D9B107E95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7E829-F655-41B4-A74F-D04E5A9D57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08A512-0438-4FC8-B8AD-0F8E69E075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2560B-A9B0-44D8-B9AF-9CE67DA293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E812-7A07-48A1-B315-1EA8C1B73C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98F00-F086-45ED-9787-C7205B43F2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B1315-34AE-4BE9-BD88-E59AEEB0F9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8EABE8-A96E-4669-8F27-8E833426D5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527E5-5C38-4B1F-9CC4-30FBB58487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994465-0CD4-43EC-A5AA-F6665EA2F72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F867C-DAD4-4BBD-A779-27548100F80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84940-AFBA-47FF-8A23-813B02599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4D8C2-DEC3-4839-84B1-C1359CB08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E76A4-D610-4E13-B54E-E90DC8544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978A1-5A99-4CB1-BBCA-71103A75FD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8A5F-C21F-47B7-885A-05DED5133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FF29-0B9F-45ED-9B3B-7CC233C19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062A3-48A2-4490-A0E0-DD493E284F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FD3DD-B077-4AE2-8E2F-47B6FC2D9E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12CD-00CA-4BD5-AE4B-92F73839F2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B029-7E12-4A82-B317-BAB528F70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71EE4-266F-47F9-A107-8160356A7F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7C29-3709-4DA4-824B-4AF6654BB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E8A-9E0E-4809-8FFA-770DDA24F2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22D1-5C4D-49E2-9B48-ADAF3534F9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EE3-D808-4C6B-A8B5-B0C13FCDE1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7875-BB15-47CC-919C-A0D8D8C09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33DB-523B-42BD-B42B-E7A85AA79B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9D29-21BE-4983-8F44-DE9350A799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3B2-C17B-4298-A4D1-B7356206F1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260-5A4B-4CB5-B3A1-CFEACB7162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F29-B204-4A1A-91E8-D48D1FFBC3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258-0CEF-47C6-A7FC-841B55EFC1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5CC-B82C-4ED3-BC29-B6B6AF4198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839F-8556-4EA4-9CBC-1A953A23EF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DDE4D-0C71-4956-BC74-49C09880BD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4F70F-7280-4F73-8383-33CFFFA1FA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EC492-151E-4325-9B0A-79DEC0894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9B77-A97A-4EB3-B2D4-F83E1DA067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B2A4A-F790-455C-A2FF-E6421F091F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4CCE8-A6E0-44E2-A9FC-A695093AB4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5A71D-92FA-4BBD-ABB9-E21FC6C440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736A6-4FE9-44EB-BBC7-D1F9C4A745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B613-5C19-4197-9BC5-79143901B0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8F139-0821-4EDD-ADC1-56DEBBB10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A5934-A6D1-45EA-935D-78DBE1A266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40FE7-27CE-4FD5-9A34-060BB28352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7454F-E0E6-462B-8A7D-FFA97FB202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8CD9D-3F45-4946-8FB6-7A5180C6B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48BE-3364-49B7-A0B5-DFDAD935F7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ACDCF-BCF1-40F8-B316-051B483FAD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6D898-B066-4AB0-A0DB-DCFBC4E157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63CED-9EAF-42DE-A932-79A9492EBF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A7A4A-6764-4351-BBAB-18DC6E748D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CA3D1-8EE5-4C26-8176-B786826C33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CF16E-C643-4EA2-AACD-A70499734A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A6904-FB67-43E2-BF40-A3F017D53D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6CB3E-4FC0-4F62-8E36-71DCF898F0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90D0A-D274-4A1F-AB14-69CA3F2591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58C98-FAD3-4342-9474-490E7ECB5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263A-7018-4CD2-BD26-09F7E2C509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22B90-5863-4265-8FC4-2A8CBC5A21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72F5-EEE0-462E-AE0A-794E3E25F3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0556-5520-4161-A720-4BF0DA1F77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4D7C-370D-4AFC-9FBA-16A35D391C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8BF4-BAEF-4DC5-920F-4E242426C4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9A28-6AF9-4235-84D5-90E10D628B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B60F-FE2C-4DEB-8584-DDA12845A1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9B56-B3DA-4F47-86B2-284D81288A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32A7-FED4-4F97-8C73-84CDFBA505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2653-5B2F-427C-9106-EE65FE59D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D9B1-6C4A-40B4-B6BC-9F4E476CDB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B744-354C-4F36-8DCE-6A73B9B725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C805-E1B5-481F-8B12-2F17BBB738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16BF-356C-4C0C-957C-4799B82858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8E45F-0403-4B10-8228-67EA223E3B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72759-1DE1-4FEF-9242-101B6D1077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99E4F-4D61-4F96-928E-D8705843AC5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8BAEF-8334-40C7-B557-884A14AA23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A3B15-3B16-40B4-B337-CECE3DC919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432D2-E249-4C4F-89E3-24BB803E77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BC447-EFB9-4590-8237-AE297DC39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A9C2-4CF5-4680-AD0A-3BC9D84386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85A8E-78E5-446D-85CC-FD47ED8399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C0605-B574-40D7-B24F-A80457B8D5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28100-40C6-43D6-8D5B-AA2D5EE9CF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88808-16A0-408E-A319-DA1150B7F3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6C45B-83F9-4186-98B7-3D3E1EFA51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74AB9-EB69-42C4-8E9F-EF4536C00C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104C2-27AE-4699-AB95-91064F2499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872EE-1C29-4E79-8622-78D7A69EF3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2779D-DC53-4D3B-A31B-F79DB3C85F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B24ED-B65D-4B9D-84A4-9D9F482B1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23BF-B41B-4519-856A-A9356E4526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484A17-7D10-4F5A-863B-658E6640F6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9AC0F-22EE-4942-B5CA-8401A3FC0D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66C80-ADC2-43C7-B270-9B9FEECEA6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A1ABF5-3266-49E6-86E6-79ADF09134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54206-7605-4F4E-AF5A-E6E39B3561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BCE32-FED8-4E80-B1A1-475C6EAA21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99359-43FF-4956-B71C-313D8DC240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1482-8BEC-4A49-8925-EE22AF440D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6A63-81D1-403A-85CB-E6B2F9DACE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DE905-F869-4F04-8C06-8B2B765BD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52B-1A27-494B-AB49-684D590FBEE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A10-9680-4080-A46E-83059B83FF8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ECA-E2F5-4A88-89F0-48AD79C0A39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47C-95D6-4785-8960-E176E3BED87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34B-E568-4F3E-9659-FEB2B47C201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79E5-FEEC-4BE6-8D7A-27D7651DF8F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2E23-AF6A-4BF2-9766-7AFA54546D5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1220-07DE-4F81-AD7F-093179BBAA4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187C-A77A-48C6-BB55-5E6DCD29FF5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3C4A-EF8B-4233-9327-E6DA7B2C9A4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DCCB-D389-4136-AA79-69DAEE3F3BE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6C7-2CB6-44CE-A84C-BFFC9C15D92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7FA-B9C0-4F18-A325-0DD6748D53E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364-D9FF-483A-9567-FFE5FD3EC21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5320"/>
            <a:ext cx="8227800" cy="39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3 – SoA Maturity Model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387-819E-411F-9F83-C58722E671C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ssessment Method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ain point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define the scop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figure assessment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ssess current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termine future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gaps and determine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oad ma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velop the final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B6F2-97B6-4DCB-823A-E4419E1522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Increased Matur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45880" y="2234880"/>
            <a:ext cx="8669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lo (L1) to Integrated (L2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grated to Componentized (L3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nentized to Services (L4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s to Composite Services (L5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site Services to Virtualised Services (L6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rtualised Services to Dynamic Reconfigurable Services (L7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35F-D0E2-45F5-8829-D929C30724D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en used, it is required to eithe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ustain or improv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matur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turity levels , business dimensions, domains and indicators a product addr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as an individual product, managed service, software as a service or to enable managed service/SaaS provi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ystem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 auditable, continual, incremental and planne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mprovem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 to determine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ach component and for the overall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st support the increased demands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rporate Govern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pli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E048-BC3B-41B1-9CA0-85E774A381E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wo Simpl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um sized organization facing IT integration issues due to a series of acquisi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facilities management product development company facing increasing competition from SAP based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7A1-E1D7-46E5-A846-FE0C96FC057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407C-07A1-43CC-B5C5-763698878DA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SIMM is a comprehensive framework that is easy to adop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A924-7CE4-467B-A3F2-645F93DFE3B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020-0FD9-44D9-B890-FF237305F45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oA Maturity Models and examine the Open Group’s Service Integration Maturity Model (OSIMM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an organisation can use a maturity model to plan the development of its own systems and/or products and to be more innov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C56-CF14-46D0-A821-C4FAA4D2323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e are several such models available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y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the ways in which SoA capability can be quantifi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flects the most primitive of starting points and optimal, aspirational finishing poi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incremental improvements which reflect technical and business need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331F-74DD-4F84-86D8-B86BEDEA963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Simple Maturity Model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651960" y="788688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onic Software – http://www.sonicsoft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AEFF-88C1-4BF7-B989-FC5055AB708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6" descr="soa_maturity_pyramid_500w.gif"/>
          <p:cNvPicPr/>
          <p:nvPr/>
        </p:nvPicPr>
        <p:blipFill>
          <a:blip r:embed="rId1"/>
          <a:stretch/>
        </p:blipFill>
        <p:spPr>
          <a:xfrm>
            <a:off x="406440" y="2343240"/>
            <a:ext cx="8283600" cy="5251320"/>
          </a:xfrm>
          <a:prstGeom prst="rect">
            <a:avLst/>
          </a:prstGeom>
          <a:ln w="0">
            <a:noFill/>
          </a:ln>
        </p:spPr>
      </p:pic>
      <p:pic>
        <p:nvPicPr>
          <p:cNvPr id="650" name="TextBox 8" descr=""/>
          <p:cNvPicPr/>
          <p:nvPr/>
        </p:nvPicPr>
        <p:blipFill>
          <a:blip r:embed="rId2"/>
          <a:stretch/>
        </p:blipFill>
        <p:spPr>
          <a:xfrm>
            <a:off x="2914560" y="6900840"/>
            <a:ext cx="2054160" cy="474840"/>
          </a:xfrm>
          <a:prstGeom prst="rect">
            <a:avLst/>
          </a:prstGeom>
          <a:ln w="0">
            <a:noFill/>
          </a:ln>
        </p:spPr>
      </p:pic>
      <p:pic>
        <p:nvPicPr>
          <p:cNvPr id="651" name="TextBox 9" descr=""/>
          <p:cNvPicPr/>
          <p:nvPr/>
        </p:nvPicPr>
        <p:blipFill>
          <a:blip r:embed="rId3"/>
          <a:stretch/>
        </p:blipFill>
        <p:spPr>
          <a:xfrm>
            <a:off x="2481120" y="5834160"/>
            <a:ext cx="2955960" cy="4744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0"/>
          <p:cNvSpPr/>
          <p:nvPr/>
        </p:nvSpPr>
        <p:spPr>
          <a:xfrm>
            <a:off x="6761160" y="3035160"/>
            <a:ext cx="18097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6392520" y="4000680"/>
            <a:ext cx="2181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6438240" y="4965840"/>
            <a:ext cx="212976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701760" y="6845400"/>
            <a:ext cx="1893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6146640" y="5880240"/>
            <a:ext cx="24829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TextBox 15" descr=""/>
          <p:cNvPicPr/>
          <p:nvPr/>
        </p:nvPicPr>
        <p:blipFill>
          <a:blip r:embed="rId4"/>
          <a:stretch/>
        </p:blipFill>
        <p:spPr>
          <a:xfrm>
            <a:off x="2712960" y="4797360"/>
            <a:ext cx="1109880" cy="71928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16" descr=""/>
          <p:cNvPicPr/>
          <p:nvPr/>
        </p:nvPicPr>
        <p:blipFill>
          <a:blip r:embed="rId5"/>
          <a:stretch/>
        </p:blipFill>
        <p:spPr>
          <a:xfrm>
            <a:off x="3029040" y="3919680"/>
            <a:ext cx="1866960" cy="6588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6"/>
          <p:cNvSpPr/>
          <p:nvPr/>
        </p:nvSpPr>
        <p:spPr>
          <a:xfrm>
            <a:off x="6870240" y="212076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59D-8498-4020-BE7A-507DDB5AC64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Group’s SIM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System Integration Maturity Model i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odel against which the degree of service integration maturity of an organization can be asses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cess for assessing the current and desired degree of service integration maturity of an organization, using the mod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A0BF-2612-4A5D-B59C-CA0ED229C45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SIMM Maturity Lev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72849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7 – Dynamically Re-configurabl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6 – Virtualise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5 – Composi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4 –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3 – Componenti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2 – Integrat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1 – Si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Up Arrow 5"/>
          <p:cNvSpPr/>
          <p:nvPr/>
        </p:nvSpPr>
        <p:spPr>
          <a:xfrm>
            <a:off x="8115480" y="2959200"/>
            <a:ext cx="253800" cy="453384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7462440" y="19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7551360" y="741672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13EF-6979-48B3-9657-814213F006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ganisational Dimens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6275880" y="2146320"/>
            <a:ext cx="15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6118920" y="7201080"/>
            <a:ext cx="18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Up-Down Arrow 10"/>
          <p:cNvSpPr/>
          <p:nvPr/>
        </p:nvSpPr>
        <p:spPr>
          <a:xfrm>
            <a:off x="6934320" y="3213000"/>
            <a:ext cx="241200" cy="3949920"/>
          </a:xfrm>
          <a:prstGeom prst="upDown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688-E9DE-464B-9E3C-0E44D6BADE8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omains &amp; Maturity Indicator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main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is a sub division of a dimension for which an organization can be measured for its SoA maturity and for which there are maturity indicators (or characteristic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maturity indicato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measure that is assessed by the asking of specific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54AD-34D5-4D78-8B14-533871D40F1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Maturity Model Matrix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5440" y="2298600"/>
            <a:ext cx="8420040" cy="5867640"/>
          </a:xfrm>
          <a:prstGeom prst="rect">
            <a:avLst/>
          </a:prstGeom>
          <a:ln w="0">
            <a:noFill/>
          </a:ln>
        </p:spPr>
      </p:pic>
      <p:sp>
        <p:nvSpPr>
          <p:cNvPr id="686" name="Right Arrow 5"/>
          <p:cNvSpPr/>
          <p:nvPr/>
        </p:nvSpPr>
        <p:spPr>
          <a:xfrm rot="19353000">
            <a:off x="252000" y="4890600"/>
            <a:ext cx="9705960" cy="60984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0:08:51Z</dcterms:created>
  <dc:creator>C Smythe</dc:creator>
  <dc:description/>
  <dc:language>en-US</dc:language>
  <cp:lastModifiedBy>Colin Smythe</cp:lastModifiedBy>
  <cp:lastPrinted>2008-02-19T11:08:18Z</cp:lastPrinted>
  <dcterms:modified xsi:type="dcterms:W3CDTF">2009-06-05T16:44:02Z</dcterms:modified>
  <cp:revision>258</cp:revision>
  <dc:subject/>
  <dc:title>No Slide Title</dc:title>
</cp:coreProperties>
</file>