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F39A-B574-4935-894D-ED8EAD6873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EBA2-48C6-429F-837F-E37647A732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334A-CF0F-4A43-8D00-B243AE7913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4518-935A-4D1F-B57B-4163EF6CCF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830A-1DC7-4700-87A0-492DBA46C9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B14F-1644-4F71-8617-065BAF6CCB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7301-9BF1-44CC-B1FB-B3531A88C8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A04F-EDA1-4187-912F-3EFC27B3D4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0C25-71C1-4F7E-9814-CF2E92F1E3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EBC7-37A0-4C3B-B32E-FCDD19AF15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0CA2-AE1B-444A-811F-0F5D0740DE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6580-D094-4058-B23D-A15C80A510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77C2-7C3E-4EDC-BDCE-7E903A0CBA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70DF-1BBB-4A22-BC88-D650E1DA58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5445-B7FB-4FFF-9FEE-A79B50970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935A-08A7-40F6-9C5B-FB8BE91CC8C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4BCFD-1A43-43B0-8A9A-A10BAE8C4C3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BFD12-0C68-4818-93BD-23ACD9E7780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E98CA-733F-4F95-B75D-26056C6A253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96F89-9019-406E-BFA0-330A157CDA9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63DA1-1E8F-47B9-920C-5AC7C43ACDC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2ECA0-0F3E-41F2-95F7-546B481C0B6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43C91-12CD-473D-8416-AE77BBC717E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2AA35-133A-4AAB-99BA-74B378FE4A5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06709-3E21-42D9-B631-7A30BA143A2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59C95-DEEF-48A3-88A0-6DB4AA1FA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F77F-F93A-4E30-9CB4-08B22E8675A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D6E35-3D6F-40E6-8906-10BB6654720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BB242-93BB-4354-8EA2-C00EEF6497A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C3743-FDB1-451B-8E67-2FDDDD53272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923B50-9323-46B4-87F0-A8519C8D148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04FD5B-E94F-47DA-A1DE-90589BEF375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A21AA2-2B89-4C49-A9CA-071BD895A92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7075B-1903-4A84-A249-20EFAF9D5E8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B36D0E-8218-4FD4-A6C6-75F1BBD93AB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2590A1-DE05-4A58-A577-266915C2171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54B8CA-242E-48C4-B6DB-F2C3E4B22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A1509-B25E-4198-9D6E-7459EBA3428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5BE6B-F7BE-4520-809F-415656CD5D5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92903E-742C-4D1B-998A-04124713A61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EAE532-F4C5-4EA5-BB13-478ECC4853C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E3828C-E548-423D-9696-64245BBF73F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5BD792-9F05-4296-9776-6203E6DD9E4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27907C-8326-4A79-9EA1-F8635AED90C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C3F646-56BA-4445-908F-98F3CC7E4C7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7C823F-813C-421D-A15A-47F2A95AA7E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697B06-F5E4-432A-94BF-19026946B23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F93321-2A48-4FAB-9BC3-CB082804D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691C8-E4A3-402C-9197-6D7727D0F92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C6879A-E73A-45A3-A36B-9157A08D3BA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89B56C-F053-4CFE-9735-DAFD98AF8DB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9E17E0-5489-47B3-9C61-031CF2BBF26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CC8DA-35A8-4825-9BE3-08EE2B96497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087E3-268A-4DBA-A5A6-C82A20A17D9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8B940-B3C1-4D05-B365-306503CBAE2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B1914-9A2C-4CAA-86E8-DA8AED9ED4F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59130-5EE2-4456-9B07-F576A0D2950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5F07A-968B-44FA-977E-83C011B07FE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05A7C-7D63-427A-BAC1-CBCB05A840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B5B22-2E4F-428A-9216-EEC0FB324CC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3759A-055B-4BDD-AD74-82502115EB0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0D561-BC90-4A60-96CF-124BCED1309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7566E-EF4C-419E-923B-1AF0CFFBB54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F4275-A700-43A1-AA1A-235AB087918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5393C-5C64-49FE-BD63-C284851DC9E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39DEA2-1FB1-4728-B82A-23083EBAE1A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0472A7-68E3-4E0A-AEB5-A96DE0854D9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C93581-F486-45FE-A4B2-2A6FFB103BD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D844D8-FE84-488F-A799-92388578C79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5FB2C1-F812-4986-95F4-CE0941C8C5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BFA91-D232-4C56-AA2F-E8D74B088B1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E9CFBA-9C92-4ADE-8999-3B7B81DB241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BBF8FD-4D02-4BE3-9135-C3E226823E3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38791F-A735-4FCE-B023-97AC0A63712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921391-7090-431D-9798-D132EEB1285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511363-E83B-4331-ACD7-780B7EB0A31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58FB63-C8A5-4AB5-8E0A-01B3A0E8CA3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DEE3F6-3F84-4D6F-B2DB-6714AB666D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38732-CB1B-4A94-BB29-DF7480AADE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72537-A11A-4C08-B11F-376AC24258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E03D5-CD4F-4999-985F-E9871A3060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A5E57-4F93-4F98-BFC6-252A208547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02D29-ADB1-423B-826E-A848C0137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6FAF9-BA66-42FB-BBA1-F932EC434C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AF473-6841-41C2-B7E3-E8A514BF1D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C1DFE-B1D8-4F50-A384-F026A2C7F7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83E14-CC82-43A1-8DB0-5AF90CEE06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14587-2D6F-4A74-A039-8D26F44876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0D92-A8A1-4D50-9532-E9105A1946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0399-D1D5-4478-8AF9-A08CF5C9EF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C984-FCEE-4817-8889-4DA4E8F6B3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7D0B-583F-4627-BF28-FB6C0AD928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0176-2947-4ABE-BC82-86C5B3C881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A5E6-7B09-4433-A348-26384AFC67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4066-6785-47A0-8760-A0BF573CD1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E744-257F-41E4-B10E-13A92CDE23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E760-6D92-4A65-96D4-A1642AD987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35AB-CF98-44B7-B292-173496DEC2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3682-C088-4302-9449-A61692AE53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4E14-9258-42FA-94F3-03A2C4B12A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0395-342A-41C6-BDB2-32037288A9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F900D-C963-4417-A9CD-7E73584BD0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475C0-2FFB-4DEB-88FD-0921857E90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8B238-0F85-4D66-AD63-DB9801695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0BA4-F08D-4294-A4CE-50BD6AFF3B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69166-D92C-494B-8A0B-93D194A071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78D55-6FEE-49CB-B666-48342771EE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0A655-65CC-4C9A-B15E-3D33A06C0B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6FA61-23A7-452C-940F-184F4C409D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35763-C4AF-4B56-9930-FD3A5A5F37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705CE-8FC0-4DB8-92D6-F43D8D6ADA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ED9AF-1037-41D9-9E2C-1DE1427C07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2D6A2-18BF-4F78-8DD3-E24102B1A6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1EE47-14F1-4DCA-81CA-F07946EF9DC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60A3BC-6A2D-4364-89C1-38D066D6A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46B6-4C64-4917-B79F-943870FE686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27469D-8506-4E9D-8DED-B7C879372C1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EA12B7-9D50-4D7A-9BF5-5BAA84C43E2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68D5A-FC05-44EA-B1CA-D2F87624F1F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02259-49AD-4100-935B-C12E37AD692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BB647E-445E-46F3-8B22-D930E30FC5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A54AED-6B91-4C96-93F1-41271904CF3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0717A7-D053-45AD-8EB1-25D65439AAB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876D6-828C-4178-9583-B317193CD8C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7C3D44-9098-44F0-B3F5-45EF65D4B8E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FD099C-F0AD-4564-A9DB-7B407C02E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6B43D-816A-4391-94A0-1B0CE890BB6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9CFDF5-A443-48BF-9A8F-D003D9DCE89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D3778-880A-4227-91A7-450BD8A0574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0680B-83B0-4790-BA4C-EFDF88A1378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FB3AC-9C9E-4474-A5B5-A863D4D3561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699A8-AE4F-4257-B0CA-653C0D6AE30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336EC-AEEE-4A46-8EFA-DCFBC93AF1A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C359B-9C5C-43F2-8D50-38BB02BC88D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444C9-DC35-40C2-9C8C-9F6B90C993A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219CF-BD77-4C39-BB88-DC81A0E2A9D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E8A40-37E1-43C1-ADDC-945D2C50D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887C0-A86E-4F36-AF24-A4CFD7CEB44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949D-1B65-4802-99B2-608B85A2AA0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528A0-BA36-4B4B-92B8-5F589C10212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415FB-EAA3-4329-BCED-B8FEED7140B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E9118-478F-466B-B2E8-01C0A49DBB3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79BED-5AAF-4C49-8FB8-BC603F15695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D87242-26F7-4593-8213-13273EC3C4E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891B4-E129-43CF-BF3A-42276129D5A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C266C-9AF3-4F12-837E-67D57CBB940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F3D75-CF12-4AC2-8D50-1E5F3A332E4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12A4B-7FBC-4EE0-ADD2-614ABE4BC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5240-952A-483E-845E-FCCC64C3CF1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5D761-9AEE-4C86-B545-41593263E9D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BC8C8-E387-4764-8CBA-A81424F6C00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CF91B-F3DB-4AD7-B57F-A8E72EDF32B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2A93D-652F-47D1-AAE6-264823FB2A6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E7F08-2070-4FBA-BA82-001BAE9E6FF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B74861-EF13-410A-975F-1D6AD73F32D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A9F7AA-79EA-4B73-BAFF-BC855DDCA9F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22A31E-A441-4F28-B7B9-15957CF0586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F4A306-E5F2-4D02-AE15-C754DF8E092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8F4EAC-3936-42D2-A1DA-4144E7541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FF668-ED13-4081-8E6A-6CFFB4279C2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1DAB06-D002-496E-BB35-CF49165E677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EBE4B4-6731-4026-B2B7-60B0CD67033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3FACE7-341E-4ADA-AE2B-6199468974E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A0D255-C696-4753-8C8D-CB516AE8BCA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095868-E0D8-4B79-B7D8-2A29E29A733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886AB6-BC8F-49EF-8630-CC71F67C014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7AA6BD-60E0-4674-89C0-B59DCBCD4E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AE4FC-4C68-417E-BBD2-3C450AA5C17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24D12-F232-4D36-87B6-21CCF203AD8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E80A7-D9B2-4783-B536-0CAA38851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49D8-DC4C-43F0-B128-D8B043EC6C7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DC39-6463-4F2E-A373-7030D604CBF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16CF-220F-48BA-9466-8504CEB84B3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C5CD-8634-4005-9A6A-E8DCB391C5E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E111-F791-466A-80F9-EFA6516BDB9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41C0-491B-4A56-A08E-B149E85A651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CE98-B9AE-43FF-A8E6-8826D070FC4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D2BB-BE38-4529-A4E3-287C445BB6E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B6A2-52AB-4AA3-BD65-46D762E6196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5B55-D82F-4372-ABAA-CB7187F3267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132A-52D8-4388-85C6-A0511014881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9920-BBA0-4236-851B-6493DD5569C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EC11-9121-42C1-AD2E-4D1F655C375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25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7C73-0C25-4983-84A5-A6A378C133B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5 – Case Studies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EEC9-787B-4EC1-A286-2DD74DAD458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he New Architectur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800" name="Group 10"/>
          <p:cNvGrpSpPr/>
          <p:nvPr/>
        </p:nvGrpSpPr>
        <p:grpSpPr>
          <a:xfrm>
            <a:off x="1549440" y="4906800"/>
            <a:ext cx="2197080" cy="1024200"/>
            <a:chOff x="1549440" y="4906800"/>
            <a:chExt cx="2197080" cy="1024200"/>
          </a:xfrm>
        </p:grpSpPr>
        <p:pic>
          <p:nvPicPr>
            <p:cNvPr id="801" name="Picture 11" descr=""/>
            <p:cNvPicPr/>
            <p:nvPr/>
          </p:nvPicPr>
          <p:blipFill>
            <a:blip r:embed="rId1"/>
            <a:stretch/>
          </p:blipFill>
          <p:spPr>
            <a:xfrm>
              <a:off x="1549440" y="4906800"/>
              <a:ext cx="219708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TextBox 12"/>
            <p:cNvSpPr/>
            <p:nvPr/>
          </p:nvSpPr>
          <p:spPr>
            <a:xfrm>
              <a:off x="1740600" y="5089680"/>
              <a:ext cx="19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Trapezoid 13"/>
          <p:cNvSpPr/>
          <p:nvPr/>
        </p:nvSpPr>
        <p:spPr>
          <a:xfrm flipV="1">
            <a:off x="682560" y="3540960"/>
            <a:ext cx="3570480" cy="40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17"/>
          <p:cNvSpPr/>
          <p:nvPr/>
        </p:nvSpPr>
        <p:spPr>
          <a:xfrm>
            <a:off x="5970600" y="6620040"/>
            <a:ext cx="2995560" cy="77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Group 18"/>
          <p:cNvGrpSpPr/>
          <p:nvPr/>
        </p:nvGrpSpPr>
        <p:grpSpPr>
          <a:xfrm>
            <a:off x="5335560" y="2571840"/>
            <a:ext cx="609120" cy="3200400"/>
            <a:chOff x="5335560" y="2571840"/>
            <a:chExt cx="609120" cy="3200400"/>
          </a:xfrm>
        </p:grpSpPr>
        <p:sp>
          <p:nvSpPr>
            <p:cNvPr id="806" name="Left Bracket 19"/>
            <p:cNvSpPr/>
            <p:nvPr/>
          </p:nvSpPr>
          <p:spPr>
            <a:xfrm>
              <a:off x="5335560" y="2571840"/>
              <a:ext cx="304560" cy="320040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59480 h 3200400"/>
                <a:gd name="textAreaBottom" fmla="*/ 304092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77"/>
                    <a:pt x="0" y="2154"/>
                  </a:cubicBezTo>
                  <a:lnTo>
                    <a:pt x="0" y="19446"/>
                  </a:lnTo>
                  <a:cubicBezTo>
                    <a:pt x="0" y="20523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eft Bracket 20"/>
            <p:cNvSpPr/>
            <p:nvPr/>
          </p:nvSpPr>
          <p:spPr>
            <a:xfrm flipH="1">
              <a:off x="5639400" y="2571840"/>
              <a:ext cx="304920" cy="320040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54800 h 3200400"/>
                <a:gd name="textAreaBottom" fmla="*/ 304560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45"/>
                    <a:pt x="0" y="2090"/>
                  </a:cubicBezTo>
                  <a:lnTo>
                    <a:pt x="0" y="19510"/>
                  </a:lnTo>
                  <a:cubicBezTo>
                    <a:pt x="0" y="2055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Group 21"/>
          <p:cNvGrpSpPr/>
          <p:nvPr/>
        </p:nvGrpSpPr>
        <p:grpSpPr>
          <a:xfrm>
            <a:off x="6516720" y="2571840"/>
            <a:ext cx="609120" cy="3200400"/>
            <a:chOff x="6516720" y="2571840"/>
            <a:chExt cx="609120" cy="3200400"/>
          </a:xfrm>
        </p:grpSpPr>
        <p:sp>
          <p:nvSpPr>
            <p:cNvPr id="809" name="Left Bracket 22"/>
            <p:cNvSpPr/>
            <p:nvPr/>
          </p:nvSpPr>
          <p:spPr>
            <a:xfrm>
              <a:off x="6516720" y="2571840"/>
              <a:ext cx="304560" cy="320040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59480 h 3200400"/>
                <a:gd name="textAreaBottom" fmla="*/ 304092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77"/>
                    <a:pt x="0" y="2154"/>
                  </a:cubicBezTo>
                  <a:lnTo>
                    <a:pt x="0" y="19446"/>
                  </a:lnTo>
                  <a:cubicBezTo>
                    <a:pt x="0" y="20523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eft Bracket 23"/>
            <p:cNvSpPr/>
            <p:nvPr/>
          </p:nvSpPr>
          <p:spPr>
            <a:xfrm flipH="1">
              <a:off x="6820560" y="2571840"/>
              <a:ext cx="304920" cy="320040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54800 h 3200400"/>
                <a:gd name="textAreaBottom" fmla="*/ 304560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45"/>
                    <a:pt x="0" y="2090"/>
                  </a:cubicBezTo>
                  <a:lnTo>
                    <a:pt x="0" y="19510"/>
                  </a:lnTo>
                  <a:cubicBezTo>
                    <a:pt x="0" y="2055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Oval 24"/>
          <p:cNvSpPr/>
          <p:nvPr/>
        </p:nvSpPr>
        <p:spPr>
          <a:xfrm>
            <a:off x="5145120" y="4971960"/>
            <a:ext cx="2209680" cy="22100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Box 26"/>
          <p:cNvSpPr/>
          <p:nvPr/>
        </p:nvSpPr>
        <p:spPr>
          <a:xfrm>
            <a:off x="5350680" y="203364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27"/>
          <p:cNvSpPr/>
          <p:nvPr/>
        </p:nvSpPr>
        <p:spPr>
          <a:xfrm>
            <a:off x="6019200" y="3786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Group 28"/>
          <p:cNvGrpSpPr/>
          <p:nvPr/>
        </p:nvGrpSpPr>
        <p:grpSpPr>
          <a:xfrm>
            <a:off x="5133960" y="2946240"/>
            <a:ext cx="403200" cy="403560"/>
            <a:chOff x="5133960" y="2946240"/>
            <a:chExt cx="403200" cy="403560"/>
          </a:xfrm>
        </p:grpSpPr>
        <p:sp>
          <p:nvSpPr>
            <p:cNvPr id="815" name="Oval 29"/>
            <p:cNvSpPr/>
            <p:nvPr/>
          </p:nvSpPr>
          <p:spPr>
            <a:xfrm>
              <a:off x="5133960" y="2946240"/>
              <a:ext cx="403200" cy="40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6" name="Picture 30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5193720" y="3035880"/>
              <a:ext cx="28368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Group 31"/>
          <p:cNvGrpSpPr/>
          <p:nvPr/>
        </p:nvGrpSpPr>
        <p:grpSpPr>
          <a:xfrm>
            <a:off x="5133960" y="3441600"/>
            <a:ext cx="403200" cy="401760"/>
            <a:chOff x="5133960" y="3441600"/>
            <a:chExt cx="403200" cy="401760"/>
          </a:xfrm>
        </p:grpSpPr>
        <p:sp>
          <p:nvSpPr>
            <p:cNvPr id="818" name="Oval 32"/>
            <p:cNvSpPr/>
            <p:nvPr/>
          </p:nvSpPr>
          <p:spPr>
            <a:xfrm>
              <a:off x="5133960" y="3441600"/>
              <a:ext cx="40320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9" name="Picture 33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5193720" y="3530880"/>
              <a:ext cx="28368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0" name="Group 34"/>
          <p:cNvGrpSpPr/>
          <p:nvPr/>
        </p:nvGrpSpPr>
        <p:grpSpPr>
          <a:xfrm>
            <a:off x="5133960" y="4570560"/>
            <a:ext cx="403200" cy="401400"/>
            <a:chOff x="5133960" y="4570560"/>
            <a:chExt cx="403200" cy="401400"/>
          </a:xfrm>
        </p:grpSpPr>
        <p:sp>
          <p:nvSpPr>
            <p:cNvPr id="821" name="Oval 35"/>
            <p:cNvSpPr/>
            <p:nvPr/>
          </p:nvSpPr>
          <p:spPr>
            <a:xfrm>
              <a:off x="5133960" y="4570560"/>
              <a:ext cx="40320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Picture 36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5193720" y="4659840"/>
              <a:ext cx="28368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3" name="Group 37"/>
          <p:cNvGrpSpPr/>
          <p:nvPr/>
        </p:nvGrpSpPr>
        <p:grpSpPr>
          <a:xfrm>
            <a:off x="5133960" y="4046400"/>
            <a:ext cx="403200" cy="401760"/>
            <a:chOff x="5133960" y="4046400"/>
            <a:chExt cx="403200" cy="401760"/>
          </a:xfrm>
        </p:grpSpPr>
        <p:sp>
          <p:nvSpPr>
            <p:cNvPr id="824" name="Oval 38"/>
            <p:cNvSpPr/>
            <p:nvPr/>
          </p:nvSpPr>
          <p:spPr>
            <a:xfrm>
              <a:off x="5133960" y="4046400"/>
              <a:ext cx="40320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5" name="Picture 39" descr=""/>
            <p:cNvPicPr/>
            <p:nvPr/>
          </p:nvPicPr>
          <p:blipFill>
            <a:blip r:embed="rId5"/>
            <a:stretch/>
          </p:blipFill>
          <p:spPr>
            <a:xfrm flipH="1" rot="10800000">
              <a:off x="5193720" y="4135680"/>
              <a:ext cx="28368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6" name="Group 40"/>
          <p:cNvGrpSpPr/>
          <p:nvPr/>
        </p:nvGrpSpPr>
        <p:grpSpPr>
          <a:xfrm>
            <a:off x="6924600" y="2898720"/>
            <a:ext cx="403200" cy="401760"/>
            <a:chOff x="6924600" y="2898720"/>
            <a:chExt cx="403200" cy="401760"/>
          </a:xfrm>
        </p:grpSpPr>
        <p:sp>
          <p:nvSpPr>
            <p:cNvPr id="827" name="Oval 41"/>
            <p:cNvSpPr/>
            <p:nvPr/>
          </p:nvSpPr>
          <p:spPr>
            <a:xfrm>
              <a:off x="6924600" y="2898720"/>
              <a:ext cx="40320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8" name="Picture 42" descr=""/>
            <p:cNvPicPr/>
            <p:nvPr/>
          </p:nvPicPr>
          <p:blipFill>
            <a:blip r:embed="rId6"/>
            <a:stretch/>
          </p:blipFill>
          <p:spPr>
            <a:xfrm flipH="1" rot="10800000">
              <a:off x="6984360" y="2988000"/>
              <a:ext cx="28368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9" name="Group 43"/>
          <p:cNvGrpSpPr/>
          <p:nvPr/>
        </p:nvGrpSpPr>
        <p:grpSpPr>
          <a:xfrm>
            <a:off x="6924600" y="3392640"/>
            <a:ext cx="403200" cy="403200"/>
            <a:chOff x="6924600" y="3392640"/>
            <a:chExt cx="403200" cy="403200"/>
          </a:xfrm>
        </p:grpSpPr>
        <p:sp>
          <p:nvSpPr>
            <p:cNvPr id="830" name="Oval 44"/>
            <p:cNvSpPr/>
            <p:nvPr/>
          </p:nvSpPr>
          <p:spPr>
            <a:xfrm>
              <a:off x="6924600" y="3392640"/>
              <a:ext cx="403200" cy="40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1" name="Picture 45" descr=""/>
            <p:cNvPicPr/>
            <p:nvPr/>
          </p:nvPicPr>
          <p:blipFill>
            <a:blip r:embed="rId7"/>
            <a:stretch/>
          </p:blipFill>
          <p:spPr>
            <a:xfrm flipH="1" rot="10800000">
              <a:off x="6984360" y="3482280"/>
              <a:ext cx="28368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2" name="Group 46"/>
          <p:cNvGrpSpPr/>
          <p:nvPr/>
        </p:nvGrpSpPr>
        <p:grpSpPr>
          <a:xfrm>
            <a:off x="6924600" y="4521240"/>
            <a:ext cx="403200" cy="403200"/>
            <a:chOff x="6924600" y="4521240"/>
            <a:chExt cx="403200" cy="403200"/>
          </a:xfrm>
        </p:grpSpPr>
        <p:sp>
          <p:nvSpPr>
            <p:cNvPr id="833" name="Oval 47"/>
            <p:cNvSpPr/>
            <p:nvPr/>
          </p:nvSpPr>
          <p:spPr>
            <a:xfrm>
              <a:off x="6924600" y="4521240"/>
              <a:ext cx="403200" cy="40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4" name="Picture 48" descr=""/>
            <p:cNvPicPr/>
            <p:nvPr/>
          </p:nvPicPr>
          <p:blipFill>
            <a:blip r:embed="rId8"/>
            <a:stretch/>
          </p:blipFill>
          <p:spPr>
            <a:xfrm flipH="1" rot="10800000">
              <a:off x="6984360" y="4610880"/>
              <a:ext cx="28368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5" name="Group 49"/>
          <p:cNvGrpSpPr/>
          <p:nvPr/>
        </p:nvGrpSpPr>
        <p:grpSpPr>
          <a:xfrm>
            <a:off x="6924600" y="3997440"/>
            <a:ext cx="403200" cy="401400"/>
            <a:chOff x="6924600" y="3997440"/>
            <a:chExt cx="403200" cy="401400"/>
          </a:xfrm>
        </p:grpSpPr>
        <p:sp>
          <p:nvSpPr>
            <p:cNvPr id="836" name="Oval 50"/>
            <p:cNvSpPr/>
            <p:nvPr/>
          </p:nvSpPr>
          <p:spPr>
            <a:xfrm>
              <a:off x="6924600" y="3997440"/>
              <a:ext cx="40320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7" name="Picture 51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6984360" y="4086720"/>
              <a:ext cx="283680" cy="158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8" name="Picture 53" descr=""/>
          <p:cNvPicPr/>
          <p:nvPr/>
        </p:nvPicPr>
        <p:blipFill>
          <a:blip r:embed="rId10"/>
          <a:stretch/>
        </p:blipFill>
        <p:spPr>
          <a:xfrm>
            <a:off x="3773520" y="4660920"/>
            <a:ext cx="825480" cy="901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55" descr=""/>
          <p:cNvPicPr/>
          <p:nvPr/>
        </p:nvPicPr>
        <p:blipFill>
          <a:blip r:embed="rId11"/>
          <a:stretch/>
        </p:blipFill>
        <p:spPr>
          <a:xfrm>
            <a:off x="1639800" y="4005360"/>
            <a:ext cx="609840" cy="9270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56" descr=""/>
          <p:cNvPicPr/>
          <p:nvPr/>
        </p:nvPicPr>
        <p:blipFill>
          <a:blip r:embed="rId12"/>
          <a:stretch/>
        </p:blipFill>
        <p:spPr>
          <a:xfrm>
            <a:off x="2290680" y="4005360"/>
            <a:ext cx="609840" cy="92700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57" descr=""/>
          <p:cNvPicPr/>
          <p:nvPr/>
        </p:nvPicPr>
        <p:blipFill>
          <a:blip r:embed="rId13"/>
          <a:stretch/>
        </p:blipFill>
        <p:spPr>
          <a:xfrm>
            <a:off x="2900520" y="4005360"/>
            <a:ext cx="609480" cy="927000"/>
          </a:xfrm>
          <a:prstGeom prst="rect">
            <a:avLst/>
          </a:prstGeom>
          <a:ln w="0">
            <a:noFill/>
          </a:ln>
        </p:spPr>
      </p:pic>
      <p:sp>
        <p:nvSpPr>
          <p:cNvPr id="842" name="TextBox 58"/>
          <p:cNvSpPr/>
          <p:nvPr/>
        </p:nvSpPr>
        <p:spPr>
          <a:xfrm>
            <a:off x="165240" y="4013280"/>
            <a:ext cx="147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 Ma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gm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Straight Connector 59"/>
          <p:cNvSpPr/>
          <p:nvPr/>
        </p:nvSpPr>
        <p:spPr>
          <a:xfrm>
            <a:off x="1944720" y="4932360"/>
            <a:ext cx="4572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traight Connector 60"/>
          <p:cNvSpPr/>
          <p:nvPr/>
        </p:nvSpPr>
        <p:spPr>
          <a:xfrm flipH="1">
            <a:off x="2595600" y="493380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Straight Connector 61"/>
          <p:cNvSpPr/>
          <p:nvPr/>
        </p:nvSpPr>
        <p:spPr>
          <a:xfrm flipH="1">
            <a:off x="2935080" y="4932360"/>
            <a:ext cx="2696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2"/>
          <p:cNvSpPr/>
          <p:nvPr/>
        </p:nvSpPr>
        <p:spPr>
          <a:xfrm>
            <a:off x="682560" y="2629080"/>
            <a:ext cx="3570480" cy="13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3"/>
          <p:cNvSpPr/>
          <p:nvPr/>
        </p:nvSpPr>
        <p:spPr>
          <a:xfrm>
            <a:off x="866880" y="3424320"/>
            <a:ext cx="327348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4"/>
          <p:cNvSpPr/>
          <p:nvPr/>
        </p:nvSpPr>
        <p:spPr>
          <a:xfrm>
            <a:off x="866880" y="2844720"/>
            <a:ext cx="327348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66"/>
          <p:cNvSpPr/>
          <p:nvPr/>
        </p:nvSpPr>
        <p:spPr>
          <a:xfrm>
            <a:off x="1300320" y="2543040"/>
            <a:ext cx="533160" cy="12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67"/>
          <p:cNvSpPr/>
          <p:nvPr/>
        </p:nvSpPr>
        <p:spPr>
          <a:xfrm>
            <a:off x="2971800" y="2543040"/>
            <a:ext cx="533520" cy="12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68"/>
          <p:cNvSpPr/>
          <p:nvPr/>
        </p:nvSpPr>
        <p:spPr>
          <a:xfrm>
            <a:off x="2151000" y="2543040"/>
            <a:ext cx="533520" cy="12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Group 96"/>
          <p:cNvGrpSpPr/>
          <p:nvPr/>
        </p:nvGrpSpPr>
        <p:grpSpPr>
          <a:xfrm>
            <a:off x="8005680" y="5029200"/>
            <a:ext cx="862200" cy="1989000"/>
            <a:chOff x="8005680" y="5029200"/>
            <a:chExt cx="862200" cy="1989000"/>
          </a:xfrm>
        </p:grpSpPr>
        <p:grpSp>
          <p:nvGrpSpPr>
            <p:cNvPr id="853" name="Group 195"/>
            <p:cNvGrpSpPr/>
            <p:nvPr/>
          </p:nvGrpSpPr>
          <p:grpSpPr>
            <a:xfrm>
              <a:off x="8337240" y="5029200"/>
              <a:ext cx="372240" cy="1469160"/>
              <a:chOff x="8337240" y="5029200"/>
              <a:chExt cx="372240" cy="1469160"/>
            </a:xfrm>
          </p:grpSpPr>
          <p:grpSp>
            <p:nvGrpSpPr>
              <p:cNvPr id="854" name="Group 200"/>
              <p:cNvGrpSpPr/>
              <p:nvPr/>
            </p:nvGrpSpPr>
            <p:grpSpPr>
              <a:xfrm>
                <a:off x="8337240" y="5029200"/>
                <a:ext cx="279720" cy="1469160"/>
                <a:chOff x="8337240" y="5029200"/>
                <a:chExt cx="279720" cy="1469160"/>
              </a:xfrm>
            </p:grpSpPr>
            <p:sp>
              <p:nvSpPr>
                <p:cNvPr id="855" name="Left Bracket 115"/>
                <p:cNvSpPr/>
                <p:nvPr/>
              </p:nvSpPr>
              <p:spPr>
                <a:xfrm>
                  <a:off x="8337240" y="5029200"/>
                  <a:ext cx="140040" cy="1469160"/>
                </a:xfrm>
                <a:custGeom>
                  <a:avLst/>
                  <a:gdLst>
                    <a:gd name="textAreaLeft" fmla="*/ 41040 w 140040"/>
                    <a:gd name="textAreaRight" fmla="*/ 140040 w 140040"/>
                    <a:gd name="textAreaTop" fmla="*/ 73080 h 1469160"/>
                    <a:gd name="textAreaBottom" fmla="*/ 1396080 h 1469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76"/>
                        <a:pt x="0" y="2152"/>
                      </a:cubicBezTo>
                      <a:lnTo>
                        <a:pt x="0" y="19448"/>
                      </a:lnTo>
                      <a:cubicBezTo>
                        <a:pt x="0" y="20524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Left Bracket 116"/>
                <p:cNvSpPr/>
                <p:nvPr/>
              </p:nvSpPr>
              <p:spPr>
                <a:xfrm flipH="1">
                  <a:off x="8476560" y="5029200"/>
                  <a:ext cx="140040" cy="1469160"/>
                </a:xfrm>
                <a:custGeom>
                  <a:avLst/>
                  <a:gdLst>
                    <a:gd name="textAreaLeft" fmla="*/ 41040 w 140040"/>
                    <a:gd name="textAreaRight" fmla="*/ 140040 w 140040"/>
                    <a:gd name="textAreaTop" fmla="*/ 70920 h 1469160"/>
                    <a:gd name="textAreaBottom" fmla="*/ 1398240 h 1469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44"/>
                        <a:pt x="0" y="2088"/>
                      </a:cubicBezTo>
                      <a:lnTo>
                        <a:pt x="0" y="19512"/>
                      </a:lnTo>
                      <a:cubicBezTo>
                        <a:pt x="0" y="20556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" name="Group 201"/>
              <p:cNvGrpSpPr/>
              <p:nvPr/>
            </p:nvGrpSpPr>
            <p:grpSpPr>
              <a:xfrm>
                <a:off x="8524800" y="5178600"/>
                <a:ext cx="184680" cy="184320"/>
                <a:chOff x="8524800" y="5178600"/>
                <a:chExt cx="184680" cy="184320"/>
              </a:xfrm>
            </p:grpSpPr>
            <p:sp>
              <p:nvSpPr>
                <p:cNvPr id="858" name="Oval 113"/>
                <p:cNvSpPr/>
                <p:nvPr/>
              </p:nvSpPr>
              <p:spPr>
                <a:xfrm>
                  <a:off x="8524800" y="5178600"/>
                  <a:ext cx="184680" cy="184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59" name="Picture 114" descr=""/>
                <p:cNvPicPr/>
                <p:nvPr/>
              </p:nvPicPr>
              <p:blipFill>
                <a:blip r:embed="rId14"/>
                <a:stretch/>
              </p:blipFill>
              <p:spPr>
                <a:xfrm flipH="1" rot="10800000">
                  <a:off x="8552160" y="5220000"/>
                  <a:ext cx="13032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60" name="Group 202"/>
              <p:cNvGrpSpPr/>
              <p:nvPr/>
            </p:nvGrpSpPr>
            <p:grpSpPr>
              <a:xfrm>
                <a:off x="8524800" y="5405760"/>
                <a:ext cx="184680" cy="184320"/>
                <a:chOff x="8524800" y="5405760"/>
                <a:chExt cx="184680" cy="184320"/>
              </a:xfrm>
            </p:grpSpPr>
            <p:sp>
              <p:nvSpPr>
                <p:cNvPr id="861" name="Oval 111"/>
                <p:cNvSpPr/>
                <p:nvPr/>
              </p:nvSpPr>
              <p:spPr>
                <a:xfrm>
                  <a:off x="8524800" y="5405760"/>
                  <a:ext cx="184680" cy="184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62" name="Picture 112" descr=""/>
                <p:cNvPicPr/>
                <p:nvPr/>
              </p:nvPicPr>
              <p:blipFill>
                <a:blip r:embed="rId15"/>
                <a:stretch/>
              </p:blipFill>
              <p:spPr>
                <a:xfrm flipH="1" rot="10800000">
                  <a:off x="8552160" y="5447880"/>
                  <a:ext cx="130320" cy="73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63" name="Group 203"/>
              <p:cNvGrpSpPr/>
              <p:nvPr/>
            </p:nvGrpSpPr>
            <p:grpSpPr>
              <a:xfrm>
                <a:off x="8524800" y="5924160"/>
                <a:ext cx="184680" cy="184320"/>
                <a:chOff x="8524800" y="5924160"/>
                <a:chExt cx="184680" cy="184320"/>
              </a:xfrm>
            </p:grpSpPr>
            <p:sp>
              <p:nvSpPr>
                <p:cNvPr id="864" name="Oval 109"/>
                <p:cNvSpPr/>
                <p:nvPr/>
              </p:nvSpPr>
              <p:spPr>
                <a:xfrm>
                  <a:off x="8524800" y="5924160"/>
                  <a:ext cx="184680" cy="184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65" name="Picture 110" descr=""/>
                <p:cNvPicPr/>
                <p:nvPr/>
              </p:nvPicPr>
              <p:blipFill>
                <a:blip r:embed="rId16"/>
                <a:stretch/>
              </p:blipFill>
              <p:spPr>
                <a:xfrm flipH="1" rot="10800000">
                  <a:off x="8552160" y="5968080"/>
                  <a:ext cx="130320" cy="70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66" name="Group 204"/>
              <p:cNvGrpSpPr/>
              <p:nvPr/>
            </p:nvGrpSpPr>
            <p:grpSpPr>
              <a:xfrm>
                <a:off x="8524800" y="5683320"/>
                <a:ext cx="184680" cy="184320"/>
                <a:chOff x="8524800" y="5683320"/>
                <a:chExt cx="184680" cy="184320"/>
              </a:xfrm>
            </p:grpSpPr>
            <p:sp>
              <p:nvSpPr>
                <p:cNvPr id="867" name="Oval 107"/>
                <p:cNvSpPr/>
                <p:nvPr/>
              </p:nvSpPr>
              <p:spPr>
                <a:xfrm>
                  <a:off x="8524800" y="5683320"/>
                  <a:ext cx="184680" cy="184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68" name="Picture 108" descr=""/>
                <p:cNvPicPr/>
                <p:nvPr/>
              </p:nvPicPr>
              <p:blipFill>
                <a:blip r:embed="rId17"/>
                <a:stretch/>
              </p:blipFill>
              <p:spPr>
                <a:xfrm flipH="1" rot="10800000">
                  <a:off x="8552160" y="5724360"/>
                  <a:ext cx="13032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69" name="Group 196"/>
            <p:cNvGrpSpPr/>
            <p:nvPr/>
          </p:nvGrpSpPr>
          <p:grpSpPr>
            <a:xfrm>
              <a:off x="8005680" y="6156000"/>
              <a:ext cx="862200" cy="862200"/>
              <a:chOff x="8005680" y="6156000"/>
              <a:chExt cx="862200" cy="862200"/>
            </a:xfrm>
          </p:grpSpPr>
          <p:sp>
            <p:nvSpPr>
              <p:cNvPr id="870" name="Oval 99"/>
              <p:cNvSpPr/>
              <p:nvPr/>
            </p:nvSpPr>
            <p:spPr>
              <a:xfrm>
                <a:off x="8005680" y="6156000"/>
                <a:ext cx="862200" cy="862200"/>
              </a:xfrm>
              <a:prstGeom prst="ellipse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Cube 100"/>
              <p:cNvSpPr/>
              <p:nvPr/>
            </p:nvSpPr>
            <p:spPr>
              <a:xfrm>
                <a:off x="8124480" y="6319440"/>
                <a:ext cx="594000" cy="326880"/>
              </a:xfrm>
              <a:prstGeom prst="cube">
                <a:avLst>
                  <a:gd name="adj" fmla="val 670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101"/>
              <p:cNvSpPr/>
              <p:nvPr/>
            </p:nvSpPr>
            <p:spPr>
              <a:xfrm>
                <a:off x="8243640" y="6360840"/>
                <a:ext cx="355680" cy="152280"/>
              </a:xfrm>
              <a:prstGeom prst="rect">
                <a:avLst/>
              </a:prstGeom>
              <a:gradFill rotWithShape="0">
                <a:gsLst>
                  <a:gs pos="0">
                    <a:srgbClr val="85ffdb"/>
                  </a:gs>
                  <a:gs pos="100000">
                    <a:srgbClr val="00eba8"/>
                  </a:gs>
                </a:gsLst>
                <a:lin ang="5400000"/>
              </a:gradFill>
              <a:ln w="9360">
                <a:solidFill>
                  <a:srgbClr val="00cc9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3" name="Snip Diagonal Corner Rectangle 117"/>
          <p:cNvSpPr/>
          <p:nvPr/>
        </p:nvSpPr>
        <p:spPr>
          <a:xfrm rot="2521200">
            <a:off x="4359240" y="4952880"/>
            <a:ext cx="930240" cy="3461040"/>
          </a:xfrm>
          <a:prstGeom prst="pie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4" name="Shape 109"/>
          <p:cNvCxnSpPr>
            <a:endCxn id="875" idx="2"/>
          </p:cNvCxnSpPr>
          <p:nvPr/>
        </p:nvCxnSpPr>
        <p:spPr>
          <a:xfrm flipH="1" rot="16200000">
            <a:off x="4678920" y="5068440"/>
            <a:ext cx="276840" cy="12646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76" name="Shape 60"/>
          <p:cNvCxnSpPr/>
          <p:nvPr/>
        </p:nvCxnSpPr>
        <p:spPr>
          <a:xfrm>
            <a:off x="2641320" y="5638680"/>
            <a:ext cx="2910240" cy="339120"/>
          </a:xfrm>
          <a:prstGeom prst="bentConnector3">
            <a:avLst>
              <a:gd name="adj1" fmla="val 235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875" name="Cube 120"/>
          <p:cNvSpPr/>
          <p:nvPr/>
        </p:nvSpPr>
        <p:spPr>
          <a:xfrm>
            <a:off x="5450040" y="5391000"/>
            <a:ext cx="1523880" cy="838440"/>
          </a:xfrm>
          <a:prstGeom prst="cube">
            <a:avLst>
              <a:gd name="adj" fmla="val 6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121"/>
          <p:cNvSpPr/>
          <p:nvPr/>
        </p:nvSpPr>
        <p:spPr>
          <a:xfrm>
            <a:off x="5754600" y="5497560"/>
            <a:ext cx="914400" cy="39060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111"/>
          <p:cNvSpPr/>
          <p:nvPr/>
        </p:nvSpPr>
        <p:spPr>
          <a:xfrm>
            <a:off x="165240" y="6637320"/>
            <a:ext cx="4559040" cy="156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4"/>
          <p:cNvSpPr/>
          <p:nvPr/>
        </p:nvSpPr>
        <p:spPr>
          <a:xfrm>
            <a:off x="399960" y="7683480"/>
            <a:ext cx="4070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dded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15"/>
          <p:cNvSpPr/>
          <p:nvPr/>
        </p:nvSpPr>
        <p:spPr>
          <a:xfrm>
            <a:off x="387360" y="7201080"/>
            <a:ext cx="409572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16"/>
          <p:cNvSpPr/>
          <p:nvPr/>
        </p:nvSpPr>
        <p:spPr>
          <a:xfrm>
            <a:off x="387360" y="6756480"/>
            <a:ext cx="2724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118"/>
          <p:cNvSpPr/>
          <p:nvPr/>
        </p:nvSpPr>
        <p:spPr>
          <a:xfrm>
            <a:off x="1031760" y="6572160"/>
            <a:ext cx="647640" cy="12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Oval 119"/>
          <p:cNvSpPr/>
          <p:nvPr/>
        </p:nvSpPr>
        <p:spPr>
          <a:xfrm>
            <a:off x="3963960" y="6573960"/>
            <a:ext cx="646200" cy="12528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121"/>
          <p:cNvSpPr/>
          <p:nvPr/>
        </p:nvSpPr>
        <p:spPr>
          <a:xfrm>
            <a:off x="1771560" y="6564240"/>
            <a:ext cx="647640" cy="12708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Box 122"/>
          <p:cNvSpPr/>
          <p:nvPr/>
        </p:nvSpPr>
        <p:spPr>
          <a:xfrm>
            <a:off x="1031760" y="6072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Box 131"/>
          <p:cNvSpPr/>
          <p:nvPr/>
        </p:nvSpPr>
        <p:spPr>
          <a:xfrm>
            <a:off x="1771560" y="60739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Box 132"/>
          <p:cNvSpPr/>
          <p:nvPr/>
        </p:nvSpPr>
        <p:spPr>
          <a:xfrm>
            <a:off x="3286080" y="60739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133"/>
          <p:cNvSpPr/>
          <p:nvPr/>
        </p:nvSpPr>
        <p:spPr>
          <a:xfrm>
            <a:off x="284040" y="6572160"/>
            <a:ext cx="648000" cy="12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Box 134"/>
          <p:cNvSpPr/>
          <p:nvPr/>
        </p:nvSpPr>
        <p:spPr>
          <a:xfrm>
            <a:off x="284040" y="60739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135"/>
          <p:cNvSpPr/>
          <p:nvPr/>
        </p:nvSpPr>
        <p:spPr>
          <a:xfrm>
            <a:off x="3286080" y="6566040"/>
            <a:ext cx="646200" cy="12528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Box 136"/>
          <p:cNvSpPr/>
          <p:nvPr/>
        </p:nvSpPr>
        <p:spPr>
          <a:xfrm>
            <a:off x="3962520" y="60897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137"/>
          <p:cNvSpPr/>
          <p:nvPr/>
        </p:nvSpPr>
        <p:spPr>
          <a:xfrm>
            <a:off x="2465280" y="6562800"/>
            <a:ext cx="646200" cy="12708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Box 138"/>
          <p:cNvSpPr/>
          <p:nvPr/>
        </p:nvSpPr>
        <p:spPr>
          <a:xfrm>
            <a:off x="2465280" y="608184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139"/>
          <p:cNvSpPr/>
          <p:nvPr/>
        </p:nvSpPr>
        <p:spPr>
          <a:xfrm>
            <a:off x="1103400" y="280656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Handling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Box 122"/>
          <p:cNvSpPr/>
          <p:nvPr/>
        </p:nvSpPr>
        <p:spPr>
          <a:xfrm>
            <a:off x="2060640" y="20844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Box 131"/>
          <p:cNvSpPr/>
          <p:nvPr/>
        </p:nvSpPr>
        <p:spPr>
          <a:xfrm>
            <a:off x="2914560" y="20858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Box 134"/>
          <p:cNvSpPr/>
          <p:nvPr/>
        </p:nvSpPr>
        <p:spPr>
          <a:xfrm>
            <a:off x="1262160" y="20858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13B6-0AD9-4EDE-A063-DFB8E895432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Benefits of using SoA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vides a standard mechanism for providing external interfa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vides a standard for workflow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vides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 non-proprietary framework for expressing service-based functionality and open interfa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mazon Web Servi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74840" y="2184480"/>
            <a:ext cx="39909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frastructure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yments &amp; Bil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n-demand Workfor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mazon Fulfill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343040" y="2171520"/>
            <a:ext cx="441972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, Web &amp; Media Ho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up &amp; Sto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t Delive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-commer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P Compu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-demand Workfor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arch Engin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5158-2259-42D0-BAD1-C1768065B8F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Box 5"/>
          <p:cNvSpPr/>
          <p:nvPr/>
        </p:nvSpPr>
        <p:spPr>
          <a:xfrm>
            <a:off x="865800" y="7823160"/>
            <a:ext cx="72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vailable at: http://aws.amazon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Using the AW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gister and establish free AWS accou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view the technical documentation for the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view the SLA and associated cos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AWS APIs and WSDL files for integration with your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ider alternatives e.g. Goog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13C0-0D53-4668-9C85-220D13621DD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Benefits of using AW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of infrastructure web services provides a factor of 10 saving cf. cost of ownership plus enables on-demand expans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se of building new web-based applications that can be quickly integrated with other applica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8D1A-FE70-4DD2-AD08-7B181FDCCF9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31A2-F06E-4EC4-BC47-C6E9E413905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ach 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 Study is based upon a a clear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turn on Investment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ull benefit requires high level of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SoA maturity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changes the rules of competition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tegration is K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8055-E5A6-4DB1-8311-DF67A6728BF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FF27-C08A-42B6-8F05-4539EB5E743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iscuss how service definitions are used to support Oracle’s Enterprise SAI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iscuss the different approaches by which SoA was used to drive product innovation for S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iscuss how the Amazon Web Services can be used to extend the capabilities of a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2BC0-3B33-407C-8597-39DCF0BA4B3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hree Case Studi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racle’s Enterprise SAI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eb Services based interoperability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duct innovation for S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lexible integration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mazon Web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ird party services via SO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5F14-FF35-472B-9E0F-8EA21F4565D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racle’s Enterprise SAIP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47" name="Picture 8" descr="academic enterprise"/>
          <p:cNvPicPr/>
          <p:nvPr/>
        </p:nvPicPr>
        <p:blipFill>
          <a:blip r:embed="rId1"/>
          <a:stretch/>
        </p:blipFill>
        <p:spPr>
          <a:xfrm>
            <a:off x="1001880" y="2068560"/>
            <a:ext cx="70624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49FF-1504-4AC4-8887-452863B14E3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Information Servi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51" name="Rectangle 103" descr=""/>
          <p:cNvPicPr/>
          <p:nvPr/>
        </p:nvPicPr>
        <p:blipFill>
          <a:blip r:embed="rId1"/>
          <a:stretch/>
        </p:blipFill>
        <p:spPr>
          <a:xfrm>
            <a:off x="633240" y="3333600"/>
            <a:ext cx="1586160" cy="4719960"/>
          </a:xfrm>
          <a:prstGeom prst="rect">
            <a:avLst/>
          </a:prstGeom>
          <a:ln w="0">
            <a:noFill/>
          </a:ln>
        </p:spPr>
      </p:pic>
      <p:pic>
        <p:nvPicPr>
          <p:cNvPr id="652" name="Rectangle 104" descr=""/>
          <p:cNvPicPr/>
          <p:nvPr/>
        </p:nvPicPr>
        <p:blipFill>
          <a:blip r:embed="rId2"/>
          <a:stretch/>
        </p:blipFill>
        <p:spPr>
          <a:xfrm>
            <a:off x="2262240" y="3333600"/>
            <a:ext cx="1584360" cy="4719960"/>
          </a:xfrm>
          <a:prstGeom prst="rect">
            <a:avLst/>
          </a:prstGeom>
          <a:ln w="0">
            <a:noFill/>
          </a:ln>
        </p:spPr>
      </p:pic>
      <p:pic>
        <p:nvPicPr>
          <p:cNvPr id="653" name="Rectangle 105" descr=""/>
          <p:cNvPicPr/>
          <p:nvPr/>
        </p:nvPicPr>
        <p:blipFill>
          <a:blip r:embed="rId3"/>
          <a:stretch/>
        </p:blipFill>
        <p:spPr>
          <a:xfrm>
            <a:off x="3889440" y="3333600"/>
            <a:ext cx="1584360" cy="4719960"/>
          </a:xfrm>
          <a:prstGeom prst="rect">
            <a:avLst/>
          </a:prstGeom>
          <a:ln w="0">
            <a:noFill/>
          </a:ln>
        </p:spPr>
      </p:pic>
      <p:pic>
        <p:nvPicPr>
          <p:cNvPr id="654" name="Rectangle 106" descr=""/>
          <p:cNvPicPr/>
          <p:nvPr/>
        </p:nvPicPr>
        <p:blipFill>
          <a:blip r:embed="rId4"/>
          <a:stretch/>
        </p:blipFill>
        <p:spPr>
          <a:xfrm>
            <a:off x="5499000" y="3333600"/>
            <a:ext cx="1584360" cy="4719960"/>
          </a:xfrm>
          <a:prstGeom prst="rect">
            <a:avLst/>
          </a:prstGeom>
          <a:ln w="0">
            <a:noFill/>
          </a:ln>
        </p:spPr>
      </p:pic>
      <p:pic>
        <p:nvPicPr>
          <p:cNvPr id="655" name="Rectangle 107" descr=""/>
          <p:cNvPicPr/>
          <p:nvPr/>
        </p:nvPicPr>
        <p:blipFill>
          <a:blip r:embed="rId5"/>
          <a:stretch/>
        </p:blipFill>
        <p:spPr>
          <a:xfrm>
            <a:off x="7126200" y="3333600"/>
            <a:ext cx="1584360" cy="471996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108"/>
          <p:cNvSpPr/>
          <p:nvPr/>
        </p:nvSpPr>
        <p:spPr>
          <a:xfrm>
            <a:off x="635040" y="2362320"/>
            <a:ext cx="8064360" cy="88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k Data Exchange Management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5D07-1A69-47E8-8EFB-5FBBFDCEE89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Interoperability using LI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3073320" y="4978440"/>
            <a:ext cx="2946600" cy="2349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Information System (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6222960" y="2286000"/>
            <a:ext cx="2565360" cy="19432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(L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507960" y="2286000"/>
            <a:ext cx="2565360" cy="1943280"/>
          </a:xfrm>
          <a:prstGeom prst="rect">
            <a:avLst/>
          </a:prstGeom>
          <a:solidFill>
            <a:srgbClr val="ebb3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ortfo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9"/>
          <p:cNvSpPr/>
          <p:nvPr/>
        </p:nvSpPr>
        <p:spPr>
          <a:xfrm>
            <a:off x="2476440" y="4114800"/>
            <a:ext cx="4191120" cy="4191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10"/>
          <p:cNvSpPr/>
          <p:nvPr/>
        </p:nvSpPr>
        <p:spPr>
          <a:xfrm>
            <a:off x="571680" y="5651640"/>
            <a:ext cx="1358640" cy="102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11"/>
          <p:cNvSpPr/>
          <p:nvPr/>
        </p:nvSpPr>
        <p:spPr>
          <a:xfrm>
            <a:off x="7213680" y="5651640"/>
            <a:ext cx="1359000" cy="102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2"/>
          <p:cNvSpPr/>
          <p:nvPr/>
        </p:nvSpPr>
        <p:spPr>
          <a:xfrm>
            <a:off x="3886200" y="2616120"/>
            <a:ext cx="1359000" cy="10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35"/>
          <p:cNvSpPr/>
          <p:nvPr/>
        </p:nvSpPr>
        <p:spPr>
          <a:xfrm>
            <a:off x="4229280" y="4927680"/>
            <a:ext cx="647640" cy="139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37"/>
          <p:cNvSpPr/>
          <p:nvPr/>
        </p:nvSpPr>
        <p:spPr>
          <a:xfrm rot="16200000">
            <a:off x="5689440" y="6069960"/>
            <a:ext cx="647640" cy="139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38"/>
          <p:cNvSpPr/>
          <p:nvPr/>
        </p:nvSpPr>
        <p:spPr>
          <a:xfrm rot="16200000">
            <a:off x="2755800" y="6069960"/>
            <a:ext cx="647640" cy="139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0" name="Straight Arrow Connector 14"/>
          <p:cNvCxnSpPr>
            <a:stCxn id="666" idx="2"/>
            <a:endCxn id="660" idx="0"/>
          </p:cNvCxnSpPr>
          <p:nvPr/>
        </p:nvCxnSpPr>
        <p:spPr>
          <a:xfrm flipH="1">
            <a:off x="4545720" y="3645000"/>
            <a:ext cx="19800" cy="133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1" name="Straight Arrow Connector 19"/>
          <p:cNvCxnSpPr>
            <a:stCxn id="660" idx="3"/>
            <a:endCxn id="665" idx="1"/>
          </p:cNvCxnSpPr>
          <p:nvPr/>
        </p:nvCxnSpPr>
        <p:spPr>
          <a:xfrm>
            <a:off x="6019920" y="6152760"/>
            <a:ext cx="119448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2" name="Straight Arrow Connector 23"/>
          <p:cNvCxnSpPr>
            <a:stCxn id="664" idx="3"/>
            <a:endCxn id="660" idx="1"/>
          </p:cNvCxnSpPr>
          <p:nvPr/>
        </p:nvCxnSpPr>
        <p:spPr>
          <a:xfrm flipV="1">
            <a:off x="1929960" y="6152400"/>
            <a:ext cx="114372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3" name="Straight Arrow Connector 28"/>
          <p:cNvCxnSpPr>
            <a:stCxn id="662" idx="2"/>
            <a:endCxn id="660" idx="1"/>
          </p:cNvCxnSpPr>
          <p:nvPr/>
        </p:nvCxnSpPr>
        <p:spPr>
          <a:xfrm>
            <a:off x="1789560" y="4229280"/>
            <a:ext cx="1283400" cy="1924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4" name="Straight Arrow Connector 31"/>
          <p:cNvCxnSpPr>
            <a:stCxn id="661" idx="2"/>
            <a:endCxn id="660" idx="3"/>
          </p:cNvCxnSpPr>
          <p:nvPr/>
        </p:nvCxnSpPr>
        <p:spPr>
          <a:xfrm flipH="1">
            <a:off x="6019200" y="4229280"/>
            <a:ext cx="1486440" cy="1924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75" name="TextBox 39"/>
          <p:cNvSpPr/>
          <p:nvPr/>
        </p:nvSpPr>
        <p:spPr>
          <a:xfrm>
            <a:off x="6195960" y="782316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IS 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traight Connector 41"/>
          <p:cNvSpPr/>
          <p:nvPr/>
        </p:nvSpPr>
        <p:spPr>
          <a:xfrm flipH="1" flipV="1">
            <a:off x="5930640" y="7823160"/>
            <a:ext cx="266760" cy="262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E51B-CFD4-4559-87E5-6C99C6194B6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Benefits </a:t>
            </a: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of using LI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351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voids having to create the equivalent proprietary Web Services interfa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lear ROI based on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usabil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ustomer satisfa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duced support/maintenance cos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ncreased sales opportuni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articipation in broader commun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4B32-B115-4F44-A91B-0C322683553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 Product Ready for Renov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ypical scenarios for SMEs considering their next generation products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echnology renovation opportun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mprove interoperabil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ging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ustomer integration use-cas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Unification of set of produc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Use third party servi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2753-49B7-442A-8B6F-42DB6DCB6DD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he Old Architectur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8" name="Oval 6"/>
          <p:cNvSpPr/>
          <p:nvPr/>
        </p:nvSpPr>
        <p:spPr>
          <a:xfrm>
            <a:off x="3768840" y="6831000"/>
            <a:ext cx="4343400" cy="77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Group 7"/>
          <p:cNvGrpSpPr/>
          <p:nvPr/>
        </p:nvGrpSpPr>
        <p:grpSpPr>
          <a:xfrm>
            <a:off x="2587680" y="2808360"/>
            <a:ext cx="609120" cy="3200400"/>
            <a:chOff x="2587680" y="2808360"/>
            <a:chExt cx="609120" cy="3200400"/>
          </a:xfrm>
        </p:grpSpPr>
        <p:sp>
          <p:nvSpPr>
            <p:cNvPr id="690" name="Left Bracket 8"/>
            <p:cNvSpPr/>
            <p:nvPr/>
          </p:nvSpPr>
          <p:spPr>
            <a:xfrm>
              <a:off x="2587680" y="2808360"/>
              <a:ext cx="304560" cy="320040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59480 h 3200400"/>
                <a:gd name="textAreaBottom" fmla="*/ 304092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77"/>
                    <a:pt x="0" y="2154"/>
                  </a:cubicBezTo>
                  <a:lnTo>
                    <a:pt x="0" y="19446"/>
                  </a:lnTo>
                  <a:cubicBezTo>
                    <a:pt x="0" y="20523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eft Bracket 9"/>
            <p:cNvSpPr/>
            <p:nvPr/>
          </p:nvSpPr>
          <p:spPr>
            <a:xfrm flipH="1">
              <a:off x="2891520" y="2808360"/>
              <a:ext cx="304920" cy="320040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54800 h 3200400"/>
                <a:gd name="textAreaBottom" fmla="*/ 304560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45"/>
                    <a:pt x="0" y="2090"/>
                  </a:cubicBezTo>
                  <a:lnTo>
                    <a:pt x="0" y="19510"/>
                  </a:lnTo>
                  <a:cubicBezTo>
                    <a:pt x="0" y="2055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10"/>
          <p:cNvGrpSpPr/>
          <p:nvPr/>
        </p:nvGrpSpPr>
        <p:grpSpPr>
          <a:xfrm>
            <a:off x="3768840" y="2808360"/>
            <a:ext cx="609120" cy="3200400"/>
            <a:chOff x="3768840" y="2808360"/>
            <a:chExt cx="609120" cy="3200400"/>
          </a:xfrm>
        </p:grpSpPr>
        <p:sp>
          <p:nvSpPr>
            <p:cNvPr id="693" name="Left Bracket 11"/>
            <p:cNvSpPr/>
            <p:nvPr/>
          </p:nvSpPr>
          <p:spPr>
            <a:xfrm>
              <a:off x="3768840" y="2808360"/>
              <a:ext cx="304560" cy="320040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59480 h 3200400"/>
                <a:gd name="textAreaBottom" fmla="*/ 304092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77"/>
                    <a:pt x="0" y="2154"/>
                  </a:cubicBezTo>
                  <a:lnTo>
                    <a:pt x="0" y="19446"/>
                  </a:lnTo>
                  <a:cubicBezTo>
                    <a:pt x="0" y="20523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eft Bracket 12"/>
            <p:cNvSpPr/>
            <p:nvPr/>
          </p:nvSpPr>
          <p:spPr>
            <a:xfrm flipH="1">
              <a:off x="4072680" y="2808360"/>
              <a:ext cx="304920" cy="320040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54800 h 3200400"/>
                <a:gd name="textAreaBottom" fmla="*/ 304560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45"/>
                    <a:pt x="0" y="2090"/>
                  </a:cubicBezTo>
                  <a:lnTo>
                    <a:pt x="0" y="19510"/>
                  </a:lnTo>
                  <a:cubicBezTo>
                    <a:pt x="0" y="2055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Group 13"/>
          <p:cNvGrpSpPr/>
          <p:nvPr/>
        </p:nvGrpSpPr>
        <p:grpSpPr>
          <a:xfrm>
            <a:off x="2397240" y="5208480"/>
            <a:ext cx="2209680" cy="2217240"/>
            <a:chOff x="2397240" y="5208480"/>
            <a:chExt cx="2209680" cy="2217240"/>
          </a:xfrm>
        </p:grpSpPr>
        <p:sp>
          <p:nvSpPr>
            <p:cNvPr id="696" name="Oval 14"/>
            <p:cNvSpPr/>
            <p:nvPr/>
          </p:nvSpPr>
          <p:spPr>
            <a:xfrm>
              <a:off x="2397240" y="5208480"/>
              <a:ext cx="2209680" cy="2210040"/>
            </a:xfrm>
            <a:prstGeom prst="ellipse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Cube 15"/>
            <p:cNvSpPr/>
            <p:nvPr/>
          </p:nvSpPr>
          <p:spPr>
            <a:xfrm>
              <a:off x="2701800" y="5627520"/>
              <a:ext cx="1523880" cy="838080"/>
            </a:xfrm>
            <a:prstGeom prst="cube">
              <a:avLst>
                <a:gd name="adj" fmla="val 6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16"/>
            <p:cNvSpPr/>
            <p:nvPr/>
          </p:nvSpPr>
          <p:spPr>
            <a:xfrm>
              <a:off x="3006720" y="5779800"/>
              <a:ext cx="914400" cy="38088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17"/>
            <p:cNvSpPr/>
            <p:nvPr/>
          </p:nvSpPr>
          <p:spPr>
            <a:xfrm>
              <a:off x="3273480" y="5779800"/>
              <a:ext cx="380880" cy="228600"/>
            </a:xfrm>
            <a:prstGeom prst="rect">
              <a:avLst/>
            </a:prstGeom>
            <a:gradFill rotWithShape="0">
              <a:gsLst>
                <a:gs pos="0">
                  <a:srgbClr val="85ffdb"/>
                </a:gs>
                <a:gs pos="100000">
                  <a:srgbClr val="00eba8"/>
                </a:gs>
              </a:gsLst>
              <a:lin ang="5400000"/>
            </a:gradFill>
            <a:ln w="9360">
              <a:solidFill>
                <a:srgbClr val="00cc9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Box 18"/>
            <p:cNvSpPr/>
            <p:nvPr/>
          </p:nvSpPr>
          <p:spPr>
            <a:xfrm>
              <a:off x="2912760" y="6478560"/>
              <a:ext cx="126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19"/>
          <p:cNvGrpSpPr/>
          <p:nvPr/>
        </p:nvGrpSpPr>
        <p:grpSpPr>
          <a:xfrm>
            <a:off x="5932440" y="4896000"/>
            <a:ext cx="932040" cy="2104920"/>
            <a:chOff x="5932440" y="4896000"/>
            <a:chExt cx="932040" cy="2104920"/>
          </a:xfrm>
        </p:grpSpPr>
        <p:grpSp>
          <p:nvGrpSpPr>
            <p:cNvPr id="702" name="Group 64"/>
            <p:cNvGrpSpPr/>
            <p:nvPr/>
          </p:nvGrpSpPr>
          <p:grpSpPr>
            <a:xfrm>
              <a:off x="6256800" y="4896000"/>
              <a:ext cx="351360" cy="1388160"/>
              <a:chOff x="6256800" y="4896000"/>
              <a:chExt cx="351360" cy="1388160"/>
            </a:xfrm>
          </p:grpSpPr>
          <p:grpSp>
            <p:nvGrpSpPr>
              <p:cNvPr id="703" name="Group 49"/>
              <p:cNvGrpSpPr/>
              <p:nvPr/>
            </p:nvGrpSpPr>
            <p:grpSpPr>
              <a:xfrm>
                <a:off x="6256800" y="4896000"/>
                <a:ext cx="263880" cy="1388160"/>
                <a:chOff x="6256800" y="4896000"/>
                <a:chExt cx="263880" cy="1388160"/>
              </a:xfrm>
            </p:grpSpPr>
            <p:sp>
              <p:nvSpPr>
                <p:cNvPr id="704" name="Left Bracket 39"/>
                <p:cNvSpPr/>
                <p:nvPr/>
              </p:nvSpPr>
              <p:spPr>
                <a:xfrm>
                  <a:off x="6256800" y="4896000"/>
                  <a:ext cx="132840" cy="1388160"/>
                </a:xfrm>
                <a:custGeom>
                  <a:avLst/>
                  <a:gdLst>
                    <a:gd name="textAreaLeft" fmla="*/ 38880 w 132840"/>
                    <a:gd name="textAreaRight" fmla="*/ 133200 w 132840"/>
                    <a:gd name="textAreaTop" fmla="*/ 69840 h 1388160"/>
                    <a:gd name="textAreaBottom" fmla="*/ 1318320 h 138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87"/>
                        <a:pt x="0" y="2174"/>
                      </a:cubicBezTo>
                      <a:lnTo>
                        <a:pt x="0" y="19426"/>
                      </a:lnTo>
                      <a:cubicBezTo>
                        <a:pt x="0" y="20513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Left Bracket 40"/>
                <p:cNvSpPr/>
                <p:nvPr/>
              </p:nvSpPr>
              <p:spPr>
                <a:xfrm flipH="1">
                  <a:off x="6388920" y="4896000"/>
                  <a:ext cx="131400" cy="1388160"/>
                </a:xfrm>
                <a:custGeom>
                  <a:avLst/>
                  <a:gdLst>
                    <a:gd name="textAreaLeft" fmla="*/ 38520 w 131400"/>
                    <a:gd name="textAreaRight" fmla="*/ 131760 w 131400"/>
                    <a:gd name="textAreaTop" fmla="*/ 66960 h 1388160"/>
                    <a:gd name="textAreaBottom" fmla="*/ 1321200 h 138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43"/>
                        <a:pt x="0" y="2085"/>
                      </a:cubicBezTo>
                      <a:lnTo>
                        <a:pt x="0" y="19515"/>
                      </a:lnTo>
                      <a:cubicBezTo>
                        <a:pt x="0" y="20558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Group 52"/>
              <p:cNvGrpSpPr/>
              <p:nvPr/>
            </p:nvGrpSpPr>
            <p:grpSpPr>
              <a:xfrm>
                <a:off x="6433920" y="5037120"/>
                <a:ext cx="174240" cy="174240"/>
                <a:chOff x="6433920" y="5037120"/>
                <a:chExt cx="174240" cy="174240"/>
              </a:xfrm>
            </p:grpSpPr>
            <p:sp>
              <p:nvSpPr>
                <p:cNvPr id="707" name="Oval 37"/>
                <p:cNvSpPr/>
                <p:nvPr/>
              </p:nvSpPr>
              <p:spPr>
                <a:xfrm>
                  <a:off x="6433920" y="503712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08" name="Picture 38" descr=""/>
                <p:cNvPicPr/>
                <p:nvPr/>
              </p:nvPicPr>
              <p:blipFill>
                <a:blip r:embed="rId1"/>
                <a:stretch/>
              </p:blipFill>
              <p:spPr>
                <a:xfrm flipH="1" rot="10800000">
                  <a:off x="6459120" y="507600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09" name="Group 55"/>
              <p:cNvGrpSpPr/>
              <p:nvPr/>
            </p:nvGrpSpPr>
            <p:grpSpPr>
              <a:xfrm>
                <a:off x="6433920" y="5251680"/>
                <a:ext cx="174240" cy="174240"/>
                <a:chOff x="6433920" y="5251680"/>
                <a:chExt cx="174240" cy="174240"/>
              </a:xfrm>
            </p:grpSpPr>
            <p:sp>
              <p:nvSpPr>
                <p:cNvPr id="710" name="Oval 35"/>
                <p:cNvSpPr/>
                <p:nvPr/>
              </p:nvSpPr>
              <p:spPr>
                <a:xfrm>
                  <a:off x="6433920" y="525168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11" name="Picture 36" descr=""/>
                <p:cNvPicPr/>
                <p:nvPr/>
              </p:nvPicPr>
              <p:blipFill>
                <a:blip r:embed="rId2"/>
                <a:stretch/>
              </p:blipFill>
              <p:spPr>
                <a:xfrm flipH="1" rot="10800000">
                  <a:off x="6459120" y="529092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12" name="Group 58"/>
              <p:cNvGrpSpPr/>
              <p:nvPr/>
            </p:nvGrpSpPr>
            <p:grpSpPr>
              <a:xfrm>
                <a:off x="6433920" y="5741640"/>
                <a:ext cx="174240" cy="174240"/>
                <a:chOff x="6433920" y="5741640"/>
                <a:chExt cx="174240" cy="174240"/>
              </a:xfrm>
            </p:grpSpPr>
            <p:sp>
              <p:nvSpPr>
                <p:cNvPr id="713" name="Oval 33"/>
                <p:cNvSpPr/>
                <p:nvPr/>
              </p:nvSpPr>
              <p:spPr>
                <a:xfrm>
                  <a:off x="6433920" y="574164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14" name="Picture 34" descr=""/>
                <p:cNvPicPr/>
                <p:nvPr/>
              </p:nvPicPr>
              <p:blipFill>
                <a:blip r:embed="rId3"/>
                <a:stretch/>
              </p:blipFill>
              <p:spPr>
                <a:xfrm flipH="1" rot="10800000">
                  <a:off x="6459120" y="578016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15" name="Group 61"/>
              <p:cNvGrpSpPr/>
              <p:nvPr/>
            </p:nvGrpSpPr>
            <p:grpSpPr>
              <a:xfrm>
                <a:off x="6433920" y="5514120"/>
                <a:ext cx="174240" cy="174240"/>
                <a:chOff x="6433920" y="5514120"/>
                <a:chExt cx="174240" cy="174240"/>
              </a:xfrm>
            </p:grpSpPr>
            <p:sp>
              <p:nvSpPr>
                <p:cNvPr id="716" name="Oval 31"/>
                <p:cNvSpPr/>
                <p:nvPr/>
              </p:nvSpPr>
              <p:spPr>
                <a:xfrm>
                  <a:off x="6433920" y="551412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17" name="Picture 32" descr=""/>
                <p:cNvPicPr/>
                <p:nvPr/>
              </p:nvPicPr>
              <p:blipFill>
                <a:blip r:embed="rId4"/>
                <a:stretch/>
              </p:blipFill>
              <p:spPr>
                <a:xfrm flipH="1" rot="10800000">
                  <a:off x="6459120" y="554868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18" name="Group 13"/>
            <p:cNvGrpSpPr/>
            <p:nvPr/>
          </p:nvGrpSpPr>
          <p:grpSpPr>
            <a:xfrm>
              <a:off x="5932440" y="6067800"/>
              <a:ext cx="932040" cy="933120"/>
              <a:chOff x="5932440" y="6067800"/>
              <a:chExt cx="932040" cy="933120"/>
            </a:xfrm>
          </p:grpSpPr>
          <p:sp>
            <p:nvSpPr>
              <p:cNvPr id="719" name="Oval 22"/>
              <p:cNvSpPr/>
              <p:nvPr/>
            </p:nvSpPr>
            <p:spPr>
              <a:xfrm>
                <a:off x="5932440" y="6067800"/>
                <a:ext cx="932040" cy="933120"/>
              </a:xfrm>
              <a:prstGeom prst="ellipse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Cube 23"/>
              <p:cNvSpPr/>
              <p:nvPr/>
            </p:nvSpPr>
            <p:spPr>
              <a:xfrm>
                <a:off x="6060960" y="6245280"/>
                <a:ext cx="642960" cy="353880"/>
              </a:xfrm>
              <a:prstGeom prst="cube">
                <a:avLst>
                  <a:gd name="adj" fmla="val 670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24"/>
              <p:cNvSpPr/>
              <p:nvPr/>
            </p:nvSpPr>
            <p:spPr>
              <a:xfrm>
                <a:off x="6189480" y="6309000"/>
                <a:ext cx="385920" cy="1602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Rectangle 25"/>
              <p:cNvSpPr/>
              <p:nvPr/>
            </p:nvSpPr>
            <p:spPr>
              <a:xfrm>
                <a:off x="6302520" y="6309000"/>
                <a:ext cx="160200" cy="96840"/>
              </a:xfrm>
              <a:prstGeom prst="rect">
                <a:avLst/>
              </a:prstGeom>
              <a:gradFill rotWithShape="0">
                <a:gsLst>
                  <a:gs pos="0">
                    <a:srgbClr val="85ffdb"/>
                  </a:gs>
                  <a:gs pos="100000">
                    <a:srgbClr val="00eba8"/>
                  </a:gs>
                </a:gsLst>
                <a:lin ang="5400000"/>
              </a:gradFill>
              <a:ln w="9360">
                <a:solidFill>
                  <a:srgbClr val="00cc9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3" name="TextBox 22"/>
          <p:cNvSpPr/>
          <p:nvPr/>
        </p:nvSpPr>
        <p:spPr>
          <a:xfrm>
            <a:off x="2329920" y="219384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 Lo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Box 23"/>
          <p:cNvSpPr/>
          <p:nvPr/>
        </p:nvSpPr>
        <p:spPr>
          <a:xfrm>
            <a:off x="3271320" y="40226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Group 27"/>
          <p:cNvGrpSpPr/>
          <p:nvPr/>
        </p:nvGrpSpPr>
        <p:grpSpPr>
          <a:xfrm>
            <a:off x="2387520" y="3182760"/>
            <a:ext cx="401760" cy="401760"/>
            <a:chOff x="2387520" y="3182760"/>
            <a:chExt cx="401760" cy="401760"/>
          </a:xfrm>
        </p:grpSpPr>
        <p:sp>
          <p:nvSpPr>
            <p:cNvPr id="726" name="Oval 24"/>
            <p:cNvSpPr/>
            <p:nvPr/>
          </p:nvSpPr>
          <p:spPr>
            <a:xfrm>
              <a:off x="2387520" y="3182760"/>
              <a:ext cx="40176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7" name="Picture 25" descr=""/>
            <p:cNvPicPr/>
            <p:nvPr/>
          </p:nvPicPr>
          <p:blipFill>
            <a:blip r:embed="rId5"/>
            <a:stretch/>
          </p:blipFill>
          <p:spPr>
            <a:xfrm flipH="1" rot="10800000">
              <a:off x="2446920" y="3272040"/>
              <a:ext cx="28260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Group 28"/>
          <p:cNvGrpSpPr/>
          <p:nvPr/>
        </p:nvGrpSpPr>
        <p:grpSpPr>
          <a:xfrm>
            <a:off x="2387520" y="3678120"/>
            <a:ext cx="401760" cy="401760"/>
            <a:chOff x="2387520" y="3678120"/>
            <a:chExt cx="401760" cy="401760"/>
          </a:xfrm>
        </p:grpSpPr>
        <p:sp>
          <p:nvSpPr>
            <p:cNvPr id="729" name="Oval 29"/>
            <p:cNvSpPr/>
            <p:nvPr/>
          </p:nvSpPr>
          <p:spPr>
            <a:xfrm>
              <a:off x="2387520" y="3678120"/>
              <a:ext cx="40176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0" name="Picture 30" descr=""/>
            <p:cNvPicPr/>
            <p:nvPr/>
          </p:nvPicPr>
          <p:blipFill>
            <a:blip r:embed="rId6"/>
            <a:stretch/>
          </p:blipFill>
          <p:spPr>
            <a:xfrm flipH="1" rot="10800000">
              <a:off x="2446920" y="3767400"/>
              <a:ext cx="28260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1" name="Group 31"/>
          <p:cNvGrpSpPr/>
          <p:nvPr/>
        </p:nvGrpSpPr>
        <p:grpSpPr>
          <a:xfrm>
            <a:off x="2387520" y="4807080"/>
            <a:ext cx="401760" cy="401400"/>
            <a:chOff x="2387520" y="4807080"/>
            <a:chExt cx="401760" cy="401400"/>
          </a:xfrm>
        </p:grpSpPr>
        <p:sp>
          <p:nvSpPr>
            <p:cNvPr id="732" name="Oval 32"/>
            <p:cNvSpPr/>
            <p:nvPr/>
          </p:nvSpPr>
          <p:spPr>
            <a:xfrm>
              <a:off x="2387520" y="4807080"/>
              <a:ext cx="40176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3" name="Picture 33" descr=""/>
            <p:cNvPicPr/>
            <p:nvPr/>
          </p:nvPicPr>
          <p:blipFill>
            <a:blip r:embed="rId7"/>
            <a:stretch/>
          </p:blipFill>
          <p:spPr>
            <a:xfrm flipH="1" rot="10800000">
              <a:off x="2446920" y="4896360"/>
              <a:ext cx="28260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4" name="Group 34"/>
          <p:cNvGrpSpPr/>
          <p:nvPr/>
        </p:nvGrpSpPr>
        <p:grpSpPr>
          <a:xfrm>
            <a:off x="2387520" y="4281480"/>
            <a:ext cx="401760" cy="403200"/>
            <a:chOff x="2387520" y="4281480"/>
            <a:chExt cx="401760" cy="403200"/>
          </a:xfrm>
        </p:grpSpPr>
        <p:sp>
          <p:nvSpPr>
            <p:cNvPr id="735" name="Oval 35"/>
            <p:cNvSpPr/>
            <p:nvPr/>
          </p:nvSpPr>
          <p:spPr>
            <a:xfrm>
              <a:off x="2387520" y="4281480"/>
              <a:ext cx="401760" cy="40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6" name="Picture 36" descr=""/>
            <p:cNvPicPr/>
            <p:nvPr/>
          </p:nvPicPr>
          <p:blipFill>
            <a:blip r:embed="rId8"/>
            <a:stretch/>
          </p:blipFill>
          <p:spPr>
            <a:xfrm flipH="1" rot="10800000">
              <a:off x="2446920" y="4371120"/>
              <a:ext cx="28260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7" name="Group 37"/>
          <p:cNvGrpSpPr/>
          <p:nvPr/>
        </p:nvGrpSpPr>
        <p:grpSpPr>
          <a:xfrm>
            <a:off x="4178160" y="3133800"/>
            <a:ext cx="401760" cy="403200"/>
            <a:chOff x="4178160" y="3133800"/>
            <a:chExt cx="401760" cy="403200"/>
          </a:xfrm>
        </p:grpSpPr>
        <p:sp>
          <p:nvSpPr>
            <p:cNvPr id="738" name="Oval 38"/>
            <p:cNvSpPr/>
            <p:nvPr/>
          </p:nvSpPr>
          <p:spPr>
            <a:xfrm>
              <a:off x="4178160" y="3133800"/>
              <a:ext cx="401760" cy="40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9" name="Picture 39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4237560" y="3223440"/>
              <a:ext cx="28260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0" name="Group 40"/>
          <p:cNvGrpSpPr/>
          <p:nvPr/>
        </p:nvGrpSpPr>
        <p:grpSpPr>
          <a:xfrm>
            <a:off x="4178160" y="3629160"/>
            <a:ext cx="401760" cy="401400"/>
            <a:chOff x="4178160" y="3629160"/>
            <a:chExt cx="401760" cy="401400"/>
          </a:xfrm>
        </p:grpSpPr>
        <p:sp>
          <p:nvSpPr>
            <p:cNvPr id="741" name="Oval 41"/>
            <p:cNvSpPr/>
            <p:nvPr/>
          </p:nvSpPr>
          <p:spPr>
            <a:xfrm>
              <a:off x="4178160" y="3629160"/>
              <a:ext cx="40176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2" name="Picture 42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4237560" y="3718440"/>
              <a:ext cx="28260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3" name="Group 43"/>
          <p:cNvGrpSpPr/>
          <p:nvPr/>
        </p:nvGrpSpPr>
        <p:grpSpPr>
          <a:xfrm>
            <a:off x="4178160" y="4757760"/>
            <a:ext cx="401760" cy="403200"/>
            <a:chOff x="4178160" y="4757760"/>
            <a:chExt cx="401760" cy="403200"/>
          </a:xfrm>
        </p:grpSpPr>
        <p:sp>
          <p:nvSpPr>
            <p:cNvPr id="744" name="Oval 44"/>
            <p:cNvSpPr/>
            <p:nvPr/>
          </p:nvSpPr>
          <p:spPr>
            <a:xfrm>
              <a:off x="4178160" y="4757760"/>
              <a:ext cx="401760" cy="40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5" name="Picture 45" descr=""/>
            <p:cNvPicPr/>
            <p:nvPr/>
          </p:nvPicPr>
          <p:blipFill>
            <a:blip r:embed="rId11"/>
            <a:stretch/>
          </p:blipFill>
          <p:spPr>
            <a:xfrm flipH="1" rot="10800000">
              <a:off x="4237560" y="4847400"/>
              <a:ext cx="28260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6" name="Group 46"/>
          <p:cNvGrpSpPr/>
          <p:nvPr/>
        </p:nvGrpSpPr>
        <p:grpSpPr>
          <a:xfrm>
            <a:off x="4178160" y="4233960"/>
            <a:ext cx="401760" cy="401400"/>
            <a:chOff x="4178160" y="4233960"/>
            <a:chExt cx="401760" cy="401400"/>
          </a:xfrm>
        </p:grpSpPr>
        <p:sp>
          <p:nvSpPr>
            <p:cNvPr id="747" name="Oval 47"/>
            <p:cNvSpPr/>
            <p:nvPr/>
          </p:nvSpPr>
          <p:spPr>
            <a:xfrm>
              <a:off x="4178160" y="4233960"/>
              <a:ext cx="40176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8" name="Picture 48" descr=""/>
            <p:cNvPicPr/>
            <p:nvPr/>
          </p:nvPicPr>
          <p:blipFill>
            <a:blip r:embed="rId12"/>
            <a:stretch/>
          </p:blipFill>
          <p:spPr>
            <a:xfrm flipH="1" rot="10800000">
              <a:off x="4237560" y="4323240"/>
              <a:ext cx="28260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9" name="Group 67"/>
          <p:cNvGrpSpPr/>
          <p:nvPr/>
        </p:nvGrpSpPr>
        <p:grpSpPr>
          <a:xfrm>
            <a:off x="7502400" y="5472000"/>
            <a:ext cx="933480" cy="2103480"/>
            <a:chOff x="7502400" y="5472000"/>
            <a:chExt cx="933480" cy="2103480"/>
          </a:xfrm>
        </p:grpSpPr>
        <p:grpSp>
          <p:nvGrpSpPr>
            <p:cNvPr id="750" name="Group 67"/>
            <p:cNvGrpSpPr/>
            <p:nvPr/>
          </p:nvGrpSpPr>
          <p:grpSpPr>
            <a:xfrm>
              <a:off x="7827120" y="5472000"/>
              <a:ext cx="351720" cy="1387440"/>
              <a:chOff x="7827120" y="5472000"/>
              <a:chExt cx="351720" cy="1387440"/>
            </a:xfrm>
          </p:grpSpPr>
          <p:grpSp>
            <p:nvGrpSpPr>
              <p:cNvPr id="751" name="Group 74"/>
              <p:cNvGrpSpPr/>
              <p:nvPr/>
            </p:nvGrpSpPr>
            <p:grpSpPr>
              <a:xfrm>
                <a:off x="7827120" y="5472000"/>
                <a:ext cx="264600" cy="1387440"/>
                <a:chOff x="7827120" y="5472000"/>
                <a:chExt cx="264600" cy="1387440"/>
              </a:xfrm>
            </p:grpSpPr>
            <p:sp>
              <p:nvSpPr>
                <p:cNvPr id="752" name="Left Bracket 87"/>
                <p:cNvSpPr/>
                <p:nvPr/>
              </p:nvSpPr>
              <p:spPr>
                <a:xfrm>
                  <a:off x="7827120" y="5472000"/>
                  <a:ext cx="132120" cy="1387440"/>
                </a:xfrm>
                <a:custGeom>
                  <a:avLst/>
                  <a:gdLst>
                    <a:gd name="textAreaLeft" fmla="*/ 38880 w 132120"/>
                    <a:gd name="textAreaRight" fmla="*/ 132480 w 132120"/>
                    <a:gd name="textAreaTop" fmla="*/ 68760 h 1387440"/>
                    <a:gd name="textAreaBottom" fmla="*/ 1318680 h 13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73"/>
                        <a:pt x="0" y="2146"/>
                      </a:cubicBezTo>
                      <a:lnTo>
                        <a:pt x="0" y="19454"/>
                      </a:lnTo>
                      <a:cubicBezTo>
                        <a:pt x="0" y="20527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eft Bracket 88"/>
                <p:cNvSpPr/>
                <p:nvPr/>
              </p:nvSpPr>
              <p:spPr>
                <a:xfrm flipH="1">
                  <a:off x="7959240" y="5472000"/>
                  <a:ext cx="132480" cy="1387440"/>
                </a:xfrm>
                <a:custGeom>
                  <a:avLst/>
                  <a:gdLst>
                    <a:gd name="textAreaLeft" fmla="*/ 39240 w 132480"/>
                    <a:gd name="textAreaRight" fmla="*/ 133200 w 132480"/>
                    <a:gd name="textAreaTop" fmla="*/ 66600 h 1387440"/>
                    <a:gd name="textAreaBottom" fmla="*/ 1320840 h 13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41"/>
                        <a:pt x="0" y="2082"/>
                      </a:cubicBezTo>
                      <a:lnTo>
                        <a:pt x="0" y="19518"/>
                      </a:lnTo>
                      <a:cubicBezTo>
                        <a:pt x="0" y="20559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Group 75"/>
              <p:cNvGrpSpPr/>
              <p:nvPr/>
            </p:nvGrpSpPr>
            <p:grpSpPr>
              <a:xfrm>
                <a:off x="8004240" y="5613120"/>
                <a:ext cx="174600" cy="174240"/>
                <a:chOff x="8004240" y="5613120"/>
                <a:chExt cx="174600" cy="174240"/>
              </a:xfrm>
            </p:grpSpPr>
            <p:sp>
              <p:nvSpPr>
                <p:cNvPr id="755" name="Oval 85"/>
                <p:cNvSpPr/>
                <p:nvPr/>
              </p:nvSpPr>
              <p:spPr>
                <a:xfrm>
                  <a:off x="8004240" y="5613120"/>
                  <a:ext cx="17460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56" name="Picture 86" descr=""/>
                <p:cNvPicPr/>
                <p:nvPr/>
              </p:nvPicPr>
              <p:blipFill>
                <a:blip r:embed="rId13"/>
                <a:stretch/>
              </p:blipFill>
              <p:spPr>
                <a:xfrm flipH="1" rot="10800000">
                  <a:off x="8030520" y="5651640"/>
                  <a:ext cx="12276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57" name="Group 76"/>
              <p:cNvGrpSpPr/>
              <p:nvPr/>
            </p:nvGrpSpPr>
            <p:grpSpPr>
              <a:xfrm>
                <a:off x="8004240" y="5827680"/>
                <a:ext cx="174600" cy="174240"/>
                <a:chOff x="8004240" y="5827680"/>
                <a:chExt cx="174600" cy="174240"/>
              </a:xfrm>
            </p:grpSpPr>
            <p:sp>
              <p:nvSpPr>
                <p:cNvPr id="758" name="Oval 83"/>
                <p:cNvSpPr/>
                <p:nvPr/>
              </p:nvSpPr>
              <p:spPr>
                <a:xfrm>
                  <a:off x="8004240" y="5827680"/>
                  <a:ext cx="17460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59" name="Picture 84" descr=""/>
                <p:cNvPicPr/>
                <p:nvPr/>
              </p:nvPicPr>
              <p:blipFill>
                <a:blip r:embed="rId14"/>
                <a:stretch/>
              </p:blipFill>
              <p:spPr>
                <a:xfrm flipH="1" rot="10800000">
                  <a:off x="8030520" y="5866560"/>
                  <a:ext cx="12276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60" name="Group 77"/>
              <p:cNvGrpSpPr/>
              <p:nvPr/>
            </p:nvGrpSpPr>
            <p:grpSpPr>
              <a:xfrm>
                <a:off x="8004240" y="6317280"/>
                <a:ext cx="174600" cy="174240"/>
                <a:chOff x="8004240" y="6317280"/>
                <a:chExt cx="174600" cy="174240"/>
              </a:xfrm>
            </p:grpSpPr>
            <p:sp>
              <p:nvSpPr>
                <p:cNvPr id="761" name="Oval 81"/>
                <p:cNvSpPr/>
                <p:nvPr/>
              </p:nvSpPr>
              <p:spPr>
                <a:xfrm>
                  <a:off x="8004240" y="6317280"/>
                  <a:ext cx="17460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62" name="Picture 82" descr=""/>
                <p:cNvPicPr/>
                <p:nvPr/>
              </p:nvPicPr>
              <p:blipFill>
                <a:blip r:embed="rId15"/>
                <a:stretch/>
              </p:blipFill>
              <p:spPr>
                <a:xfrm flipH="1" rot="10800000">
                  <a:off x="8030520" y="6356520"/>
                  <a:ext cx="12276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63" name="Group 78"/>
              <p:cNvGrpSpPr/>
              <p:nvPr/>
            </p:nvGrpSpPr>
            <p:grpSpPr>
              <a:xfrm>
                <a:off x="8004240" y="6089760"/>
                <a:ext cx="174600" cy="174240"/>
                <a:chOff x="8004240" y="6089760"/>
                <a:chExt cx="174600" cy="174240"/>
              </a:xfrm>
            </p:grpSpPr>
            <p:sp>
              <p:nvSpPr>
                <p:cNvPr id="764" name="Oval 79"/>
                <p:cNvSpPr/>
                <p:nvPr/>
              </p:nvSpPr>
              <p:spPr>
                <a:xfrm>
                  <a:off x="8004240" y="6089760"/>
                  <a:ext cx="17460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65" name="Picture 80" descr=""/>
                <p:cNvPicPr/>
                <p:nvPr/>
              </p:nvPicPr>
              <p:blipFill>
                <a:blip r:embed="rId16"/>
                <a:stretch/>
              </p:blipFill>
              <p:spPr>
                <a:xfrm flipH="1" rot="10800000">
                  <a:off x="8030520" y="6128640"/>
                  <a:ext cx="12276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66" name="Group 68"/>
            <p:cNvGrpSpPr/>
            <p:nvPr/>
          </p:nvGrpSpPr>
          <p:grpSpPr>
            <a:xfrm>
              <a:off x="7502400" y="6643080"/>
              <a:ext cx="933480" cy="932400"/>
              <a:chOff x="7502400" y="6643080"/>
              <a:chExt cx="933480" cy="932400"/>
            </a:xfrm>
          </p:grpSpPr>
          <p:sp>
            <p:nvSpPr>
              <p:cNvPr id="767" name="Oval 70"/>
              <p:cNvSpPr/>
              <p:nvPr/>
            </p:nvSpPr>
            <p:spPr>
              <a:xfrm>
                <a:off x="7502400" y="6643080"/>
                <a:ext cx="933480" cy="932400"/>
              </a:xfrm>
              <a:prstGeom prst="ellipse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Cube 71"/>
              <p:cNvSpPr/>
              <p:nvPr/>
            </p:nvSpPr>
            <p:spPr>
              <a:xfrm>
                <a:off x="7630920" y="6819120"/>
                <a:ext cx="644760" cy="354240"/>
              </a:xfrm>
              <a:prstGeom prst="cube">
                <a:avLst>
                  <a:gd name="adj" fmla="val 670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Rectangle 72"/>
              <p:cNvSpPr/>
              <p:nvPr/>
            </p:nvSpPr>
            <p:spPr>
              <a:xfrm>
                <a:off x="7759440" y="6884280"/>
                <a:ext cx="387360" cy="1602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73"/>
              <p:cNvSpPr/>
              <p:nvPr/>
            </p:nvSpPr>
            <p:spPr>
              <a:xfrm>
                <a:off x="7872120" y="6884280"/>
                <a:ext cx="161640" cy="96840"/>
              </a:xfrm>
              <a:prstGeom prst="rect">
                <a:avLst/>
              </a:prstGeom>
              <a:gradFill rotWithShape="0">
                <a:gsLst>
                  <a:gs pos="0">
                    <a:srgbClr val="85ffdb"/>
                  </a:gs>
                  <a:gs pos="100000">
                    <a:srgbClr val="00eba8"/>
                  </a:gs>
                </a:gsLst>
                <a:lin ang="5400000"/>
              </a:gradFill>
              <a:ln w="9360">
                <a:solidFill>
                  <a:srgbClr val="00cc9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1" name="Group 89"/>
          <p:cNvGrpSpPr/>
          <p:nvPr/>
        </p:nvGrpSpPr>
        <p:grpSpPr>
          <a:xfrm>
            <a:off x="4809960" y="5929200"/>
            <a:ext cx="932040" cy="2103480"/>
            <a:chOff x="4809960" y="5929200"/>
            <a:chExt cx="932040" cy="2103480"/>
          </a:xfrm>
        </p:grpSpPr>
        <p:grpSp>
          <p:nvGrpSpPr>
            <p:cNvPr id="772" name="Group 91"/>
            <p:cNvGrpSpPr/>
            <p:nvPr/>
          </p:nvGrpSpPr>
          <p:grpSpPr>
            <a:xfrm>
              <a:off x="5134320" y="5929200"/>
              <a:ext cx="351360" cy="1387440"/>
              <a:chOff x="5134320" y="5929200"/>
              <a:chExt cx="351360" cy="1387440"/>
            </a:xfrm>
          </p:grpSpPr>
          <p:grpSp>
            <p:nvGrpSpPr>
              <p:cNvPr id="773" name="Group 97"/>
              <p:cNvGrpSpPr/>
              <p:nvPr/>
            </p:nvGrpSpPr>
            <p:grpSpPr>
              <a:xfrm>
                <a:off x="5134320" y="5929200"/>
                <a:ext cx="263880" cy="1387440"/>
                <a:chOff x="5134320" y="5929200"/>
                <a:chExt cx="263880" cy="1387440"/>
              </a:xfrm>
            </p:grpSpPr>
            <p:sp>
              <p:nvSpPr>
                <p:cNvPr id="774" name="Left Bracket 109"/>
                <p:cNvSpPr/>
                <p:nvPr/>
              </p:nvSpPr>
              <p:spPr>
                <a:xfrm>
                  <a:off x="5134320" y="5929200"/>
                  <a:ext cx="132840" cy="1387440"/>
                </a:xfrm>
                <a:custGeom>
                  <a:avLst/>
                  <a:gdLst>
                    <a:gd name="textAreaLeft" fmla="*/ 38880 w 132840"/>
                    <a:gd name="textAreaRight" fmla="*/ 133200 w 132840"/>
                    <a:gd name="textAreaTop" fmla="*/ 69840 h 1387440"/>
                    <a:gd name="textAreaBottom" fmla="*/ 1317600 h 13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88"/>
                        <a:pt x="0" y="2175"/>
                      </a:cubicBezTo>
                      <a:lnTo>
                        <a:pt x="0" y="19425"/>
                      </a:lnTo>
                      <a:cubicBezTo>
                        <a:pt x="0" y="20513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eft Bracket 110"/>
                <p:cNvSpPr/>
                <p:nvPr/>
              </p:nvSpPr>
              <p:spPr>
                <a:xfrm flipH="1">
                  <a:off x="5266440" y="5929200"/>
                  <a:ext cx="131400" cy="1387440"/>
                </a:xfrm>
                <a:custGeom>
                  <a:avLst/>
                  <a:gdLst>
                    <a:gd name="textAreaLeft" fmla="*/ 38520 w 131400"/>
                    <a:gd name="textAreaRight" fmla="*/ 131760 w 131400"/>
                    <a:gd name="textAreaTop" fmla="*/ 66960 h 1387440"/>
                    <a:gd name="textAreaBottom" fmla="*/ 1320480 h 13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43"/>
                        <a:pt x="0" y="2085"/>
                      </a:cubicBezTo>
                      <a:lnTo>
                        <a:pt x="0" y="19515"/>
                      </a:lnTo>
                      <a:cubicBezTo>
                        <a:pt x="0" y="20558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Group 98"/>
              <p:cNvGrpSpPr/>
              <p:nvPr/>
            </p:nvGrpSpPr>
            <p:grpSpPr>
              <a:xfrm>
                <a:off x="5311440" y="6070320"/>
                <a:ext cx="174240" cy="174240"/>
                <a:chOff x="5311440" y="6070320"/>
                <a:chExt cx="174240" cy="174240"/>
              </a:xfrm>
            </p:grpSpPr>
            <p:sp>
              <p:nvSpPr>
                <p:cNvPr id="777" name="Oval 107"/>
                <p:cNvSpPr/>
                <p:nvPr/>
              </p:nvSpPr>
              <p:spPr>
                <a:xfrm>
                  <a:off x="5311440" y="607032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78" name="Picture 108" descr=""/>
                <p:cNvPicPr/>
                <p:nvPr/>
              </p:nvPicPr>
              <p:blipFill>
                <a:blip r:embed="rId17"/>
                <a:stretch/>
              </p:blipFill>
              <p:spPr>
                <a:xfrm flipH="1" rot="10800000">
                  <a:off x="5336640" y="610884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79" name="Group 99"/>
              <p:cNvGrpSpPr/>
              <p:nvPr/>
            </p:nvGrpSpPr>
            <p:grpSpPr>
              <a:xfrm>
                <a:off x="5311440" y="6284880"/>
                <a:ext cx="174240" cy="174240"/>
                <a:chOff x="5311440" y="6284880"/>
                <a:chExt cx="174240" cy="174240"/>
              </a:xfrm>
            </p:grpSpPr>
            <p:sp>
              <p:nvSpPr>
                <p:cNvPr id="780" name="Oval 105"/>
                <p:cNvSpPr/>
                <p:nvPr/>
              </p:nvSpPr>
              <p:spPr>
                <a:xfrm>
                  <a:off x="5311440" y="628488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81" name="Picture 106" descr=""/>
                <p:cNvPicPr/>
                <p:nvPr/>
              </p:nvPicPr>
              <p:blipFill>
                <a:blip r:embed="rId18"/>
                <a:stretch/>
              </p:blipFill>
              <p:spPr>
                <a:xfrm flipH="1" rot="10800000">
                  <a:off x="5336640" y="632376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82" name="Group 100"/>
              <p:cNvGrpSpPr/>
              <p:nvPr/>
            </p:nvGrpSpPr>
            <p:grpSpPr>
              <a:xfrm>
                <a:off x="5311440" y="6774480"/>
                <a:ext cx="174240" cy="174240"/>
                <a:chOff x="5311440" y="6774480"/>
                <a:chExt cx="174240" cy="174240"/>
              </a:xfrm>
            </p:grpSpPr>
            <p:sp>
              <p:nvSpPr>
                <p:cNvPr id="783" name="Oval 103"/>
                <p:cNvSpPr/>
                <p:nvPr/>
              </p:nvSpPr>
              <p:spPr>
                <a:xfrm>
                  <a:off x="5311440" y="677448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84" name="Picture 104" descr=""/>
                <p:cNvPicPr/>
                <p:nvPr/>
              </p:nvPicPr>
              <p:blipFill>
                <a:blip r:embed="rId19"/>
                <a:stretch/>
              </p:blipFill>
              <p:spPr>
                <a:xfrm flipH="1" rot="10800000">
                  <a:off x="5336640" y="681372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85" name="Group 101"/>
              <p:cNvGrpSpPr/>
              <p:nvPr/>
            </p:nvGrpSpPr>
            <p:grpSpPr>
              <a:xfrm>
                <a:off x="5311440" y="6546960"/>
                <a:ext cx="174240" cy="174240"/>
                <a:chOff x="5311440" y="6546960"/>
                <a:chExt cx="174240" cy="174240"/>
              </a:xfrm>
            </p:grpSpPr>
            <p:sp>
              <p:nvSpPr>
                <p:cNvPr id="786" name="Oval 101"/>
                <p:cNvSpPr/>
                <p:nvPr/>
              </p:nvSpPr>
              <p:spPr>
                <a:xfrm>
                  <a:off x="5311440" y="654696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87" name="Picture 102" descr=""/>
                <p:cNvPicPr/>
                <p:nvPr/>
              </p:nvPicPr>
              <p:blipFill>
                <a:blip r:embed="rId20"/>
                <a:stretch/>
              </p:blipFill>
              <p:spPr>
                <a:xfrm flipH="1" rot="10800000">
                  <a:off x="5336640" y="658584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88" name="Group 92"/>
            <p:cNvGrpSpPr/>
            <p:nvPr/>
          </p:nvGrpSpPr>
          <p:grpSpPr>
            <a:xfrm>
              <a:off x="4809960" y="7100280"/>
              <a:ext cx="932040" cy="932400"/>
              <a:chOff x="4809960" y="7100280"/>
              <a:chExt cx="932040" cy="932400"/>
            </a:xfrm>
          </p:grpSpPr>
          <p:sp>
            <p:nvSpPr>
              <p:cNvPr id="789" name="Oval 92"/>
              <p:cNvSpPr/>
              <p:nvPr/>
            </p:nvSpPr>
            <p:spPr>
              <a:xfrm>
                <a:off x="4809960" y="7100280"/>
                <a:ext cx="932040" cy="932400"/>
              </a:xfrm>
              <a:prstGeom prst="ellipse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Cube 93"/>
              <p:cNvSpPr/>
              <p:nvPr/>
            </p:nvSpPr>
            <p:spPr>
              <a:xfrm>
                <a:off x="4938480" y="7276320"/>
                <a:ext cx="642960" cy="354240"/>
              </a:xfrm>
              <a:prstGeom prst="cube">
                <a:avLst>
                  <a:gd name="adj" fmla="val 670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Rectangle 94"/>
              <p:cNvSpPr/>
              <p:nvPr/>
            </p:nvSpPr>
            <p:spPr>
              <a:xfrm>
                <a:off x="5067000" y="7341480"/>
                <a:ext cx="385920" cy="1602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Rectangle 95"/>
              <p:cNvSpPr/>
              <p:nvPr/>
            </p:nvSpPr>
            <p:spPr>
              <a:xfrm>
                <a:off x="5180040" y="7341480"/>
                <a:ext cx="160200" cy="96840"/>
              </a:xfrm>
              <a:prstGeom prst="rect">
                <a:avLst/>
              </a:prstGeom>
              <a:gradFill rotWithShape="0">
                <a:gsLst>
                  <a:gs pos="0">
                    <a:srgbClr val="85ffdb"/>
                  </a:gs>
                  <a:gs pos="100000">
                    <a:srgbClr val="00eba8"/>
                  </a:gs>
                </a:gsLst>
                <a:lin ang="5400000"/>
              </a:gradFill>
              <a:ln w="9360">
                <a:solidFill>
                  <a:srgbClr val="00cc9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3" name="TextBox 111"/>
          <p:cNvSpPr/>
          <p:nvPr/>
        </p:nvSpPr>
        <p:spPr>
          <a:xfrm>
            <a:off x="5799240" y="766908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112" descr=""/>
          <p:cNvPicPr/>
          <p:nvPr/>
        </p:nvPicPr>
        <p:blipFill>
          <a:blip r:embed="rId21"/>
          <a:stretch/>
        </p:blipFill>
        <p:spPr>
          <a:xfrm>
            <a:off x="1025640" y="4896000"/>
            <a:ext cx="825480" cy="901440"/>
          </a:xfrm>
          <a:prstGeom prst="rect">
            <a:avLst/>
          </a:prstGeom>
          <a:ln w="0">
            <a:noFill/>
          </a:ln>
        </p:spPr>
      </p:pic>
      <p:cxnSp>
        <p:nvCxnSpPr>
          <p:cNvPr id="795" name="Shape 113"/>
          <p:cNvCxnSpPr/>
          <p:nvPr/>
        </p:nvCxnSpPr>
        <p:spPr>
          <a:xfrm flipH="1" rot="16200000">
            <a:off x="1931040" y="5304240"/>
            <a:ext cx="278280" cy="126432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96" name="TextBox 114"/>
          <p:cNvSpPr/>
          <p:nvPr/>
        </p:nvSpPr>
        <p:spPr>
          <a:xfrm>
            <a:off x="317520" y="6189840"/>
            <a:ext cx="204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9:27:22Z</dcterms:created>
  <dc:creator>C Smythe</dc:creator>
  <dc:description/>
  <dc:language>en-US</dc:language>
  <cp:lastModifiedBy>Colin Smythe</cp:lastModifiedBy>
  <cp:lastPrinted>2008-02-19T11:08:18Z</cp:lastPrinted>
  <dcterms:modified xsi:type="dcterms:W3CDTF">2009-05-04T20:03:54Z</dcterms:modified>
  <cp:revision>262</cp:revision>
  <dc:subject/>
  <dc:title>No Slide Title</dc:title>
</cp:coreProperties>
</file>