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dt" idx="2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sldImg"/>
          </p:nvPr>
        </p:nvSpPr>
        <p:spPr>
          <a:xfrm>
            <a:off x="1714320" y="685440"/>
            <a:ext cx="3429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ftr" idx="2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 type="sldNum" idx="2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1AAC-116C-4CC4-AD5B-34C058F705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9C33-99ED-46BB-B837-01E47515D1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09E9-9215-4782-BCD5-AC173B1E50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92B7-20D5-4EE2-A130-E11333B0C3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8074-22B1-4E26-B32E-094839DB3B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ABA8-B1A3-409B-8A6B-7F283C03E8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1B5B-76F6-488B-AC63-634812D692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3B8B-11ED-49C3-B957-E30432B89C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87B0-2AE3-47D5-88C3-DD19003B0B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6458-5CD0-4D93-AC86-78EFC78C13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1544-5017-483B-BCAE-62DE1739D2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E602-6CD9-49CC-8F67-041FD4052C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EC85-F25C-430B-8E76-B935F7617B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C084-F944-4462-A3EA-A1E616C7B9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E0E58-F1C4-4E57-8E8D-BA78255D12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3CBF5-B326-48FF-ADBB-9251CF4B968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87C32-4558-41D8-9742-CFB59C30C8B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4C41D-40FB-40D8-80F6-7F742830D31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EC284-0DF5-4312-A23A-8895A821D32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3C4B9-65E2-414B-8574-B2ABE6104C0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45F7E-6D87-425F-AEED-A342CF61A09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B174C-FF32-4C33-9EA9-2E4AC7AA48A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46A80-3552-4A9F-BEFD-7FAA40189F4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9329E-8F7F-49CD-BFB2-16EE5ADCD3A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9ABFD-353B-4200-A50E-D65D2A32AE1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10D68E-6408-4675-9454-7959FDFAAD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F16C3-5F79-49D0-9181-2DD8D7D9156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C53010-8E0E-4336-BA62-68B41D41113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D0C4AF-DC3E-4558-A052-8DDF39BFA01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72C359-E796-43D3-A481-539BA715119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235242-1DA4-4985-BA1A-D1643CDB088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2DA66C-7DFF-4703-AFF2-26B1C4A8CF6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44287F-9DB5-432D-8AF0-E1632880EC7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3A84F5-9C1D-4DBF-A020-54DD255EE29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59DE34-44BD-4365-BC49-978DEA4CAAB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ECC39D-1FE1-4708-9FB4-97B9FD9BF55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65C531-6135-49E2-8FE8-C544AF5C2A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B1213-5802-4745-BDFC-86C4D4C1A65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CE5C66-90D1-42A5-BFFD-84E707DB1F0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189349-FB2E-4375-A65E-00401568729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5B1AC0-9272-4A46-A50A-1CB762800CF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599BEC-9063-4337-9E88-E001909A11F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3EB5CF-F678-4F35-8C04-C98FF9B3901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6B499C-C2F0-402E-BF2A-4974E33C980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D18214-E0EA-4108-9350-3269ED476C7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BACD12-3F56-453E-8F83-B0131AAC917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1C3BE9-E9BE-46CA-9F07-E588A7855E9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9E4EE3-4064-4930-9A65-BA8A7A0C78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C6ED6-9703-471F-9E79-3AE5D1D07E4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82717C-1CA1-4E38-B442-A6F47F8FD03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160030-7146-4479-95A7-1AE807E9389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19D7E7-4371-44CE-AD69-B78294E13A0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E9D58-22FD-4E84-ACE4-BB00D684D28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24358-D6C7-454A-9477-66DAA4DB0EC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C7D40-8DDE-4B89-A40C-390A7D3527D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25F09-13B3-43AF-B529-13089A21C65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AC480-540D-4D2C-8AA6-6A979D67F24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37CCD-02B2-4042-BAE2-07459DD5AC0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A6F3A-E860-4180-A1EB-AE1D3A37B0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76572-3A45-48EA-8FE9-B5B271C0499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FEEAE-3F53-4C9F-8003-D9EE8B27CBA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0F2C8-3029-4976-9905-45CA3C0C8AE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4D7F3-A923-4444-9DBD-65FC566AF68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39D3A-1DC0-4E26-81D1-3EE8F23FD05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0D054-80E8-4FC5-87A8-76EAF4E2B20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ED4974-6B85-4369-9BC6-50949635A3C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801A90-5D4F-48BE-A01F-7C56E9C941A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017128-B2D3-49AC-9E4B-4C6E2608E82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84BFBE-5B6C-4187-BCFD-9234E3AB1AA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F28493-1BB1-48F5-A0D2-3DF0522627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42506-92A9-4499-8AF0-B619AA65150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33607E-C13F-4C59-AC85-74E598FCB36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5D8A39-2574-48A5-A347-417946DF643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94D621-4276-4CA0-B426-DF9A296526D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48309B-2FF5-4C0C-B27C-3260D326305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FBB2A6-6C6F-4338-837D-4318A7342F0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A161E0-E91D-4229-B635-D0600365EFB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2FE734-5A40-401D-97B6-E45D4EAD0F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2DCEA-3311-4954-AE16-C05568FFD1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4841FC-D04C-4543-BD7C-9F395B5652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69C5D-943A-4016-B0F4-7C291595DB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A478BE-5EF0-483B-9031-744387E01C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95713-D30E-4459-98DF-4D98A4D8AE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33124-78F5-4893-B3FD-87A6173A12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1AD5C-D705-4897-B5F7-B4FD8A0182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15A97-AD4C-4675-B30A-B415205EE5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ED07D9-6FD7-4A5F-B423-9827C27D95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CF2542-BA5E-40C9-912F-4ED23183DD9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9A5E-276A-45D7-B549-0C49042C311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B9B8D-CE7C-4BC8-AC8F-B73C8C1A41D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CACE-67BC-4A63-A454-8E3C96E545C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A21A-358C-4C26-8984-8A6F02FFC28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1D073-E7BF-44AC-8243-B0F4F1A81B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D2C0E-937D-4038-974A-1F4A4B61115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0BA2-73C0-4EF4-A459-153EA1C7A39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D1B3-5B3B-4D85-91F2-C2894DCF610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8EC4-A1E5-4BE0-9375-56167EE6EC6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D3F1-935C-4DCE-B012-11532B474A7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C8EA-0C6A-4407-8F82-63D09A84989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C29F-A371-4E35-82C2-7227A686EA3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2BCA-6F4D-4B9D-8AA5-C16051E288B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65D672-6514-4B62-A1DE-8B8253BACFB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6DB9A4-E896-454D-B47C-AE2E2D3548E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A1FD40-E620-485A-94E2-404B04A97B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996B1-DC84-4469-90CF-77957C895C5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1313BA-3834-45E1-8DA9-D24DFF7D170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6939A6-AE23-4BCF-86F7-71D8014A9ED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9D2AA2-7EB6-4A84-AB42-D3CE3B9A30F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B686A3-55EC-4091-B782-71835F9DE4E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740D37-A05F-42C4-9559-177C6CF39C9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F1972A-D776-4219-957F-F9ED430FCED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015AAF-D5A8-4C70-BE9D-12875584E28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AAB9F2-7ABD-40E7-87BF-91E31DC30E2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623C4E-6325-4FC4-9548-B6702C4EE14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9DEFB6-0EBC-42CF-9B5D-8C38202D72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2546E-39AE-4B87-A347-F71275661F5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14DC7B-B944-465F-9F66-F7A193FDF85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4AE07E-B99E-444A-B7DB-F667205696B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E746B0-FC45-471C-AE35-6EC9D0B016F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B7CD79-C99D-4C48-88DE-9F2106D3C85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8A2625-FEF3-4038-8B63-8D957259803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FBFB58-739C-4840-8A10-2EFA7340C87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CA0E55-0809-4EF5-B04F-50638FDA362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E2E754-C9FE-4057-8D2B-BC24C183EB2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D2AEEC-0C71-4AFC-9F96-FC3760BDDB1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C5B32D-4F5F-455D-9EF7-0AE7359D0A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D1114-0052-4097-B1A2-FF82B6BC9A3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37E78F-8FC9-4E69-912B-D670F91C17C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6514C-890B-42EE-901D-CAF9F7943A5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DE43B-E10E-44F6-8897-EBAB16786AB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85C60-7FA0-47DD-AA25-580608D3967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2A2B5-98EC-4ECE-803A-37D18BD5D23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772F5-4EAB-480C-B3E3-CE99CEB144F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B8479-E55E-4466-A1DF-2BEEEE1C415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75861-666F-4A5E-865D-D55AD42C0D3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BAE9E-AB71-4040-B02F-FBD4D7FC4BF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272D0-DC31-46F9-87CA-B754CFE942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96555-2483-4A4D-B364-E38CDC18B8F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72168-4508-4EEB-891A-AA1D582CBC3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3AA54-8107-4C11-9867-DCA3BB0FE1C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7530C-A672-42F0-9657-BFBA7ADEB26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53A5CB-E29F-4199-99AE-1D1DB8FECE1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679195-0350-49C2-ACAB-5493ABA19E0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4E9421-FD6A-4140-97DF-2B67AF9A67B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F546C9-AFC4-4274-89C7-A220721DF1B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B5F780-09DB-4A55-BD96-15FB78F6EE0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9F9C3D-9205-4A98-86D4-34E10A6380E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80FCBE-B44A-45B2-B854-FC4FF76F1E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80D2A-F0FB-4349-A4D5-5850EBD07EE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D8C635-8B4C-497E-A0B4-2DD4F6E6D9C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7A02DC-DB9D-456A-AD28-7B68BF94678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061EBA-DE7A-41B6-9B86-E3A5CDE4AD7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1F7E3E-439C-4FD7-929D-4CCF9214AA5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4876D3-A47D-4D7F-B3B5-B525FF64289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20B283-D6C9-4992-9833-EA24F34E698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C1FBDE-02EF-49DE-AAA0-EA681D9ECC9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F13CFE-2F21-481E-9C93-2B418B33566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5BE381-3F55-48D3-92E0-3F97D8A4CE3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BD750A-2ED0-40AB-B78E-BF64A35326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63020-F109-47F3-8EBD-D9989BBE9EC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7E2825-E171-4C39-9EFD-D4A46A6DD27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F9BD35-B640-4C94-958A-637A9DFC716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F14DBD-756A-495A-831B-BF484479226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67E871-E10D-4AD4-A05C-28D599B82F3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0A94E3-E1E1-432F-AB7F-4868AF6338F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500CC4-08B2-4100-BAA1-90A712D5B52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963ED5-A853-4976-917D-4653E1BCB02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CB4F4-C55A-46F2-84D3-46087BEC867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5B640-E8BA-498A-998B-A3B170D8F72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B4919-695A-4737-AE19-13C622374D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1915-9366-4267-8294-6BC4DEAB1247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ftr" idx="19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sldNum" idx="20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AF0C-12FC-410A-9D9A-05A26033815D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ftr" idx="2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sldNum" idx="2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B741-C6E9-454C-82EA-618CC84CE583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ftr" idx="2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sldNum" idx="2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284B-A0DC-4230-9C7F-20E7F5F6200A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ftr" idx="2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sldNum" idx="2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A75B-2BC1-447D-9EBB-A18F587CB761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792C-2DA6-41D4-9361-1EA1745D98F5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AD10-6F3B-4849-AA2C-30A281A1A6A4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7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8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652A-4A8E-494B-B256-B5BDE6D43624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9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0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D632-0415-44C7-8617-B9621468DF1F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1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sldNum" idx="1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86D5-3B0F-4636-B8E3-B77ECDB93310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C807-3986-467C-AC2E-535FDE355FD7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ftr" idx="1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sldNum" idx="1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A18F-03AE-4901-BEA1-9F6685A1C997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ftr" idx="17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sldNum" idx="18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FFCF-E86B-474B-AC57-BFD8DF537361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5181-7FEF-4263-BC45-F1FE1B925BB2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93480" y="1794960"/>
            <a:ext cx="822780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Times New Roman"/>
              </a:rPr>
              <a:t>Service-oriented Architecture (SoA):</a:t>
            </a:r>
            <a:br>
              <a:rPr sz="4000"/>
            </a:br>
            <a:r>
              <a:rPr b="1" lang="en-GB" sz="4000" spc="-1" strike="noStrike">
                <a:solidFill>
                  <a:srgbClr val="808080"/>
                </a:solidFill>
                <a:latin typeface="Times New Roman"/>
              </a:rPr>
              <a:t>Preparing Your Business &amp; IT Products</a:t>
            </a:r>
            <a:br>
              <a:rPr sz="3200"/>
            </a:br>
            <a:br>
              <a:rPr sz="3200"/>
            </a:br>
            <a:r>
              <a:rPr b="1" lang="en-GB" sz="4800" spc="-1" strike="noStrike">
                <a:solidFill>
                  <a:srgbClr val="808080"/>
                </a:solidFill>
                <a:latin typeface="Times New Roman"/>
              </a:rPr>
              <a:t>Session 6 – Core Technology</a:t>
            </a:r>
            <a:endParaRPr b="1" lang="en-US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583920" y="6392880"/>
            <a:ext cx="806436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r Colin Smyth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unelm Services Ltd (colin@dunelm.com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Picture 5" descr="88x31.png"/>
          <p:cNvPicPr/>
          <p:nvPr/>
        </p:nvPicPr>
        <p:blipFill>
          <a:blip r:embed="rId1"/>
          <a:stretch/>
        </p:blipFill>
        <p:spPr>
          <a:xfrm>
            <a:off x="469800" y="7835760"/>
            <a:ext cx="1422360" cy="5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F760-002E-4BC1-94EA-6669CD66C250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APIs, Protocols and Interfac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grpSp>
        <p:nvGrpSpPr>
          <p:cNvPr id="765" name="Group 72"/>
          <p:cNvGrpSpPr/>
          <p:nvPr/>
        </p:nvGrpSpPr>
        <p:grpSpPr>
          <a:xfrm>
            <a:off x="6091200" y="4151160"/>
            <a:ext cx="2851200" cy="838440"/>
            <a:chOff x="6091200" y="4151160"/>
            <a:chExt cx="2851200" cy="838440"/>
          </a:xfrm>
        </p:grpSpPr>
        <p:grpSp>
          <p:nvGrpSpPr>
            <p:cNvPr id="766" name="Group 73"/>
            <p:cNvGrpSpPr/>
            <p:nvPr/>
          </p:nvGrpSpPr>
          <p:grpSpPr>
            <a:xfrm>
              <a:off x="6091200" y="4151160"/>
              <a:ext cx="1361880" cy="838440"/>
              <a:chOff x="6091200" y="4151160"/>
              <a:chExt cx="1361880" cy="838440"/>
            </a:xfrm>
          </p:grpSpPr>
          <p:sp>
            <p:nvSpPr>
              <p:cNvPr id="767" name="Rectangle 74"/>
              <p:cNvSpPr/>
              <p:nvPr/>
            </p:nvSpPr>
            <p:spPr>
              <a:xfrm>
                <a:off x="6091200" y="4151160"/>
                <a:ext cx="1361880" cy="838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Text Box 75"/>
              <p:cNvSpPr/>
              <p:nvPr/>
            </p:nvSpPr>
            <p:spPr>
              <a:xfrm>
                <a:off x="6108120" y="4259160"/>
                <a:ext cx="1299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On-the-wi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Interfa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Group 76"/>
            <p:cNvGrpSpPr/>
            <p:nvPr/>
          </p:nvGrpSpPr>
          <p:grpSpPr>
            <a:xfrm>
              <a:off x="7435800" y="4151160"/>
              <a:ext cx="1506600" cy="838080"/>
              <a:chOff x="7435800" y="4151160"/>
              <a:chExt cx="1506600" cy="838080"/>
            </a:xfrm>
          </p:grpSpPr>
          <p:sp>
            <p:nvSpPr>
              <p:cNvPr id="770" name="Rectangle 77"/>
              <p:cNvSpPr/>
              <p:nvPr/>
            </p:nvSpPr>
            <p:spPr>
              <a:xfrm>
                <a:off x="7435800" y="4151160"/>
                <a:ext cx="1506600" cy="8380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Text Box 78"/>
              <p:cNvSpPr/>
              <p:nvPr/>
            </p:nvSpPr>
            <p:spPr>
              <a:xfrm>
                <a:off x="7556760" y="4262040"/>
                <a:ext cx="1262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rovid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pplic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2" name="Group 79"/>
          <p:cNvGrpSpPr/>
          <p:nvPr/>
        </p:nvGrpSpPr>
        <p:grpSpPr>
          <a:xfrm>
            <a:off x="190440" y="4151160"/>
            <a:ext cx="4300560" cy="838080"/>
            <a:chOff x="190440" y="4151160"/>
            <a:chExt cx="4300560" cy="838080"/>
          </a:xfrm>
        </p:grpSpPr>
        <p:grpSp>
          <p:nvGrpSpPr>
            <p:cNvPr id="773" name="Group 80"/>
            <p:cNvGrpSpPr/>
            <p:nvPr/>
          </p:nvGrpSpPr>
          <p:grpSpPr>
            <a:xfrm>
              <a:off x="190440" y="4151160"/>
              <a:ext cx="1354320" cy="838080"/>
              <a:chOff x="190440" y="4151160"/>
              <a:chExt cx="1354320" cy="838080"/>
            </a:xfrm>
          </p:grpSpPr>
          <p:sp>
            <p:nvSpPr>
              <p:cNvPr id="774" name="Rectangle 81"/>
              <p:cNvSpPr/>
              <p:nvPr/>
            </p:nvSpPr>
            <p:spPr>
              <a:xfrm>
                <a:off x="190440" y="4151160"/>
                <a:ext cx="135432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Text Box 82"/>
              <p:cNvSpPr/>
              <p:nvPr/>
            </p:nvSpPr>
            <p:spPr>
              <a:xfrm>
                <a:off x="236880" y="4227120"/>
                <a:ext cx="1262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onsum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pplic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Group 83"/>
            <p:cNvGrpSpPr/>
            <p:nvPr/>
          </p:nvGrpSpPr>
          <p:grpSpPr>
            <a:xfrm>
              <a:off x="3129120" y="4151160"/>
              <a:ext cx="1361880" cy="838080"/>
              <a:chOff x="3129120" y="4151160"/>
              <a:chExt cx="1361880" cy="838080"/>
            </a:xfrm>
          </p:grpSpPr>
          <p:sp>
            <p:nvSpPr>
              <p:cNvPr id="777" name="Rectangle 84"/>
              <p:cNvSpPr/>
              <p:nvPr/>
            </p:nvSpPr>
            <p:spPr>
              <a:xfrm>
                <a:off x="3129120" y="4151160"/>
                <a:ext cx="136188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Text Box 85"/>
              <p:cNvSpPr/>
              <p:nvPr/>
            </p:nvSpPr>
            <p:spPr>
              <a:xfrm>
                <a:off x="3146040" y="4258800"/>
                <a:ext cx="1299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On-the-wi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Interfa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Group 86"/>
            <p:cNvGrpSpPr/>
            <p:nvPr/>
          </p:nvGrpSpPr>
          <p:grpSpPr>
            <a:xfrm>
              <a:off x="2085840" y="4151160"/>
              <a:ext cx="1041480" cy="838080"/>
              <a:chOff x="2085840" y="4151160"/>
              <a:chExt cx="1041480" cy="838080"/>
            </a:xfrm>
          </p:grpSpPr>
          <p:sp>
            <p:nvSpPr>
              <p:cNvPr id="780" name="Rectangle 87"/>
              <p:cNvSpPr/>
              <p:nvPr/>
            </p:nvSpPr>
            <p:spPr>
              <a:xfrm>
                <a:off x="2085840" y="4151160"/>
                <a:ext cx="1041480" cy="83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Text Box 88"/>
              <p:cNvSpPr/>
              <p:nvPr/>
            </p:nvSpPr>
            <p:spPr>
              <a:xfrm>
                <a:off x="2147400" y="4386240"/>
                <a:ext cx="91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Adapt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Group 89"/>
            <p:cNvGrpSpPr/>
            <p:nvPr/>
          </p:nvGrpSpPr>
          <p:grpSpPr>
            <a:xfrm>
              <a:off x="1528920" y="4151160"/>
              <a:ext cx="549000" cy="838080"/>
              <a:chOff x="1528920" y="4151160"/>
              <a:chExt cx="549000" cy="838080"/>
            </a:xfrm>
          </p:grpSpPr>
          <p:sp>
            <p:nvSpPr>
              <p:cNvPr id="783" name="Rectangle 90"/>
              <p:cNvSpPr/>
              <p:nvPr/>
            </p:nvSpPr>
            <p:spPr>
              <a:xfrm>
                <a:off x="1528920" y="4151160"/>
                <a:ext cx="549000" cy="838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Text Box 91"/>
              <p:cNvSpPr/>
              <p:nvPr/>
            </p:nvSpPr>
            <p:spPr>
              <a:xfrm flipH="1" flipV="1">
                <a:off x="1566360" y="4162680"/>
                <a:ext cx="423720" cy="813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Interfa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785" name="AutoShape 92"/>
          <p:cNvCxnSpPr/>
          <p:nvPr/>
        </p:nvCxnSpPr>
        <p:spPr>
          <a:xfrm>
            <a:off x="4490640" y="4570200"/>
            <a:ext cx="16009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86" name="Text Box 93"/>
          <p:cNvSpPr/>
          <p:nvPr/>
        </p:nvSpPr>
        <p:spPr>
          <a:xfrm>
            <a:off x="4459680" y="4141800"/>
            <a:ext cx="16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the-w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7" name="Group 94"/>
          <p:cNvGrpSpPr/>
          <p:nvPr/>
        </p:nvGrpSpPr>
        <p:grpSpPr>
          <a:xfrm>
            <a:off x="6068880" y="6335640"/>
            <a:ext cx="2851200" cy="853920"/>
            <a:chOff x="6068880" y="6335640"/>
            <a:chExt cx="2851200" cy="853920"/>
          </a:xfrm>
        </p:grpSpPr>
        <p:sp>
          <p:nvSpPr>
            <p:cNvPr id="788" name="Rectangle 95"/>
            <p:cNvSpPr/>
            <p:nvPr/>
          </p:nvSpPr>
          <p:spPr>
            <a:xfrm>
              <a:off x="6068880" y="6335640"/>
              <a:ext cx="136224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Text Box 96"/>
            <p:cNvSpPr/>
            <p:nvPr/>
          </p:nvSpPr>
          <p:spPr>
            <a:xfrm>
              <a:off x="6158160" y="6365520"/>
              <a:ext cx="1171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n-the-wi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Rectangle 97"/>
            <p:cNvSpPr/>
            <p:nvPr/>
          </p:nvSpPr>
          <p:spPr>
            <a:xfrm>
              <a:off x="7413840" y="6335640"/>
              <a:ext cx="1506240" cy="8380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Text Box 98"/>
            <p:cNvSpPr/>
            <p:nvPr/>
          </p:nvSpPr>
          <p:spPr>
            <a:xfrm>
              <a:off x="7512480" y="6470280"/>
              <a:ext cx="1308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Java-Provi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2" name="AutoShape 99"/>
          <p:cNvCxnSpPr/>
          <p:nvPr/>
        </p:nvCxnSpPr>
        <p:spPr>
          <a:xfrm>
            <a:off x="4468320" y="6754320"/>
            <a:ext cx="16009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93" name="Text Box 100"/>
          <p:cNvSpPr/>
          <p:nvPr/>
        </p:nvSpPr>
        <p:spPr>
          <a:xfrm>
            <a:off x="4703040" y="6337440"/>
            <a:ext cx="109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Group 101"/>
          <p:cNvGrpSpPr/>
          <p:nvPr/>
        </p:nvGrpSpPr>
        <p:grpSpPr>
          <a:xfrm>
            <a:off x="168120" y="6335640"/>
            <a:ext cx="4300200" cy="838080"/>
            <a:chOff x="168120" y="6335640"/>
            <a:chExt cx="4300200" cy="838080"/>
          </a:xfrm>
        </p:grpSpPr>
        <p:sp>
          <p:nvSpPr>
            <p:cNvPr id="795" name="Rectangle 102"/>
            <p:cNvSpPr/>
            <p:nvPr/>
          </p:nvSpPr>
          <p:spPr>
            <a:xfrm>
              <a:off x="3106440" y="6335640"/>
              <a:ext cx="13618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Text Box 103"/>
            <p:cNvSpPr/>
            <p:nvPr/>
          </p:nvSpPr>
          <p:spPr>
            <a:xfrm>
              <a:off x="3198600" y="6340320"/>
              <a:ext cx="1171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#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n-the-wi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Rectangle 104"/>
            <p:cNvSpPr/>
            <p:nvPr/>
          </p:nvSpPr>
          <p:spPr>
            <a:xfrm>
              <a:off x="1506240" y="6335640"/>
              <a:ext cx="54936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Text Box 105"/>
            <p:cNvSpPr/>
            <p:nvPr/>
          </p:nvSpPr>
          <p:spPr>
            <a:xfrm flipH="1" flipV="1">
              <a:off x="1416960" y="6346800"/>
              <a:ext cx="667080" cy="813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#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Rectangle 106"/>
            <p:cNvSpPr/>
            <p:nvPr/>
          </p:nvSpPr>
          <p:spPr>
            <a:xfrm>
              <a:off x="168120" y="6335640"/>
              <a:ext cx="135396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Text Box 107"/>
            <p:cNvSpPr/>
            <p:nvPr/>
          </p:nvSpPr>
          <p:spPr>
            <a:xfrm>
              <a:off x="193680" y="6435360"/>
              <a:ext cx="1303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# Consu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Rectangle 108"/>
            <p:cNvSpPr/>
            <p:nvPr/>
          </p:nvSpPr>
          <p:spPr>
            <a:xfrm>
              <a:off x="2063520" y="6335640"/>
              <a:ext cx="1041480" cy="838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Text Box 109"/>
            <p:cNvSpPr/>
            <p:nvPr/>
          </p:nvSpPr>
          <p:spPr>
            <a:xfrm>
              <a:off x="2166840" y="6467400"/>
              <a:ext cx="83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C#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dap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Text Box 110"/>
          <p:cNvSpPr/>
          <p:nvPr/>
        </p:nvSpPr>
        <p:spPr>
          <a:xfrm>
            <a:off x="4291920" y="519444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111"/>
          <p:cNvSpPr/>
          <p:nvPr/>
        </p:nvSpPr>
        <p:spPr>
          <a:xfrm>
            <a:off x="4322160" y="7353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Line 112"/>
          <p:cNvSpPr/>
          <p:nvPr/>
        </p:nvSpPr>
        <p:spPr>
          <a:xfrm>
            <a:off x="3135240" y="3575160"/>
            <a:ext cx="0" cy="593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Line 113"/>
          <p:cNvSpPr/>
          <p:nvPr/>
        </p:nvSpPr>
        <p:spPr>
          <a:xfrm>
            <a:off x="7445520" y="3583080"/>
            <a:ext cx="0" cy="56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Line 114"/>
          <p:cNvSpPr/>
          <p:nvPr/>
        </p:nvSpPr>
        <p:spPr>
          <a:xfrm>
            <a:off x="2085840" y="3565440"/>
            <a:ext cx="0" cy="585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Line 115"/>
          <p:cNvSpPr/>
          <p:nvPr/>
        </p:nvSpPr>
        <p:spPr>
          <a:xfrm>
            <a:off x="1535040" y="3575160"/>
            <a:ext cx="0" cy="576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Line 116"/>
          <p:cNvSpPr/>
          <p:nvPr/>
        </p:nvSpPr>
        <p:spPr>
          <a:xfrm>
            <a:off x="3189240" y="3606840"/>
            <a:ext cx="42163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117"/>
          <p:cNvSpPr/>
          <p:nvPr/>
        </p:nvSpPr>
        <p:spPr>
          <a:xfrm>
            <a:off x="4413600" y="2513160"/>
            <a:ext cx="13878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Line 118"/>
          <p:cNvSpPr/>
          <p:nvPr/>
        </p:nvSpPr>
        <p:spPr>
          <a:xfrm>
            <a:off x="2146320" y="360684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Line 120"/>
          <p:cNvSpPr/>
          <p:nvPr/>
        </p:nvSpPr>
        <p:spPr>
          <a:xfrm>
            <a:off x="1544760" y="3605040"/>
            <a:ext cx="492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121"/>
          <p:cNvSpPr/>
          <p:nvPr/>
        </p:nvSpPr>
        <p:spPr>
          <a:xfrm>
            <a:off x="622440" y="2144880"/>
            <a:ext cx="157464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(AP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4" name="AutoShape 122"/>
          <p:cNvCxnSpPr/>
          <p:nvPr/>
        </p:nvCxnSpPr>
        <p:spPr>
          <a:xfrm flipH="1">
            <a:off x="1785600" y="3149280"/>
            <a:ext cx="1008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5" name="AutoShape 123"/>
          <p:cNvCxnSpPr/>
          <p:nvPr/>
        </p:nvCxnSpPr>
        <p:spPr>
          <a:xfrm flipH="1">
            <a:off x="2628720" y="3115800"/>
            <a:ext cx="2160" cy="46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6" name="AutoShape 124"/>
          <p:cNvCxnSpPr/>
          <p:nvPr/>
        </p:nvCxnSpPr>
        <p:spPr>
          <a:xfrm flipH="1">
            <a:off x="5125680" y="3141720"/>
            <a:ext cx="2160" cy="467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7" name="Text Box 119"/>
          <p:cNvSpPr/>
          <p:nvPr/>
        </p:nvSpPr>
        <p:spPr>
          <a:xfrm>
            <a:off x="2222640" y="2149560"/>
            <a:ext cx="132516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p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D878-0BDF-4452-881C-571EEF483AC7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Interoperability &amp; Innovation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ase of developme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4440" indent="-36972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Define clear and comprehensive service interfaces for internal and external us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74440" indent="-36972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eparate data from presentation inform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Promote interoperabilit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4440" indent="-36972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ublish some or all of each interface in the form of an API and WSDL fil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0115-A667-4390-93CE-88C4F2BCD212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ombining Servic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eparation into services requires combination to realise business process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Business Process Execution Language (BPEL) is used to choreograph/orchestrate servi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onsider the nature of services/messaging i.e. synchronous, asynchronous, polled, etc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Straight Connector 36"/>
          <p:cNvSpPr/>
          <p:nvPr/>
        </p:nvSpPr>
        <p:spPr>
          <a:xfrm>
            <a:off x="1790640" y="2862360"/>
            <a:ext cx="5209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Straight Connector 40"/>
          <p:cNvSpPr/>
          <p:nvPr/>
        </p:nvSpPr>
        <p:spPr>
          <a:xfrm>
            <a:off x="1790640" y="4051440"/>
            <a:ext cx="5209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Straight Connector 41"/>
          <p:cNvSpPr/>
          <p:nvPr/>
        </p:nvSpPr>
        <p:spPr>
          <a:xfrm>
            <a:off x="1773360" y="6354720"/>
            <a:ext cx="52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Straight Connector 42"/>
          <p:cNvSpPr/>
          <p:nvPr/>
        </p:nvSpPr>
        <p:spPr>
          <a:xfrm>
            <a:off x="1773360" y="5168880"/>
            <a:ext cx="52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Straight Connector 31"/>
          <p:cNvSpPr/>
          <p:nvPr/>
        </p:nvSpPr>
        <p:spPr>
          <a:xfrm>
            <a:off x="2324160" y="3174840"/>
            <a:ext cx="52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Straight Connector 32"/>
          <p:cNvSpPr/>
          <p:nvPr/>
        </p:nvSpPr>
        <p:spPr>
          <a:xfrm>
            <a:off x="2311560" y="3936960"/>
            <a:ext cx="52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Straight Connector 33"/>
          <p:cNvSpPr/>
          <p:nvPr/>
        </p:nvSpPr>
        <p:spPr>
          <a:xfrm>
            <a:off x="2311560" y="4660920"/>
            <a:ext cx="52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Straight Connector 34"/>
          <p:cNvSpPr/>
          <p:nvPr/>
        </p:nvSpPr>
        <p:spPr>
          <a:xfrm>
            <a:off x="2298600" y="5384880"/>
            <a:ext cx="5209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Straight Connector 35"/>
          <p:cNvSpPr/>
          <p:nvPr/>
        </p:nvSpPr>
        <p:spPr>
          <a:xfrm>
            <a:off x="2311560" y="6134040"/>
            <a:ext cx="52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25"/>
          <p:cNvSpPr/>
          <p:nvPr/>
        </p:nvSpPr>
        <p:spPr>
          <a:xfrm>
            <a:off x="2806560" y="2286000"/>
            <a:ext cx="6007320" cy="57531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11"/>
          <p:cNvSpPr/>
          <p:nvPr/>
        </p:nvSpPr>
        <p:spPr>
          <a:xfrm>
            <a:off x="4013280" y="2502000"/>
            <a:ext cx="1879560" cy="4254480"/>
          </a:xfrm>
          <a:prstGeom prst="rect">
            <a:avLst/>
          </a:prstGeom>
          <a:solidFill>
            <a:srgbClr val="adade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TextBox 12"/>
          <p:cNvSpPr/>
          <p:nvPr/>
        </p:nvSpPr>
        <p:spPr>
          <a:xfrm rot="16200000">
            <a:off x="3759120" y="42346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processor and policy enfor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Enterprise Service Bu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39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987C-E615-43F2-9CBF-E0D097B99DC5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"/>
          <p:cNvSpPr/>
          <p:nvPr/>
        </p:nvSpPr>
        <p:spPr>
          <a:xfrm>
            <a:off x="190440" y="2502000"/>
            <a:ext cx="1879560" cy="749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A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6"/>
          <p:cNvSpPr/>
          <p:nvPr/>
        </p:nvSpPr>
        <p:spPr>
          <a:xfrm>
            <a:off x="2565360" y="2933640"/>
            <a:ext cx="2095560" cy="46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7"/>
          <p:cNvSpPr/>
          <p:nvPr/>
        </p:nvSpPr>
        <p:spPr>
          <a:xfrm>
            <a:off x="2565360" y="3683160"/>
            <a:ext cx="2095560" cy="46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MI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8"/>
          <p:cNvSpPr/>
          <p:nvPr/>
        </p:nvSpPr>
        <p:spPr>
          <a:xfrm>
            <a:off x="2577960" y="4406760"/>
            <a:ext cx="2095560" cy="47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9"/>
          <p:cNvSpPr/>
          <p:nvPr/>
        </p:nvSpPr>
        <p:spPr>
          <a:xfrm>
            <a:off x="2565360" y="5130720"/>
            <a:ext cx="2095560" cy="47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MS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10"/>
          <p:cNvSpPr/>
          <p:nvPr/>
        </p:nvSpPr>
        <p:spPr>
          <a:xfrm>
            <a:off x="2565360" y="5892840"/>
            <a:ext cx="2095560" cy="46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??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Rectangle 13" descr=""/>
          <p:cNvPicPr/>
          <p:nvPr/>
        </p:nvPicPr>
        <p:blipFill>
          <a:blip r:embed="rId1"/>
          <a:stretch/>
        </p:blipFill>
        <p:spPr>
          <a:xfrm>
            <a:off x="6248520" y="2494080"/>
            <a:ext cx="749160" cy="4271760"/>
          </a:xfrm>
          <a:prstGeom prst="rect">
            <a:avLst/>
          </a:prstGeom>
          <a:ln w="0">
            <a:noFill/>
          </a:ln>
        </p:spPr>
      </p:pic>
      <p:cxnSp>
        <p:nvCxnSpPr>
          <p:cNvPr id="848" name="Straight Arrow Connector 15"/>
          <p:cNvCxnSpPr>
            <a:stCxn id="836" idx="3"/>
            <a:endCxn id="847" idx="1"/>
          </p:cNvCxnSpPr>
          <p:nvPr/>
        </p:nvCxnSpPr>
        <p:spPr>
          <a:xfrm>
            <a:off x="5892480" y="4629240"/>
            <a:ext cx="3690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49" name="Rectangle 16"/>
          <p:cNvSpPr/>
          <p:nvPr/>
        </p:nvSpPr>
        <p:spPr>
          <a:xfrm>
            <a:off x="7391520" y="2489040"/>
            <a:ext cx="1257120" cy="430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Box 17"/>
          <p:cNvSpPr/>
          <p:nvPr/>
        </p:nvSpPr>
        <p:spPr>
          <a:xfrm>
            <a:off x="7391520" y="2502000"/>
            <a:ext cx="12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18"/>
          <p:cNvSpPr/>
          <p:nvPr/>
        </p:nvSpPr>
        <p:spPr>
          <a:xfrm>
            <a:off x="7454880" y="3289320"/>
            <a:ext cx="1104840" cy="1003320"/>
          </a:xfrm>
          <a:prstGeom prst="rect">
            <a:avLst/>
          </a:prstGeom>
          <a:solidFill>
            <a:srgbClr val="00009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19"/>
          <p:cNvSpPr/>
          <p:nvPr/>
        </p:nvSpPr>
        <p:spPr>
          <a:xfrm>
            <a:off x="7454880" y="5600880"/>
            <a:ext cx="1104840" cy="1002960"/>
          </a:xfrm>
          <a:prstGeom prst="rect">
            <a:avLst/>
          </a:prstGeom>
          <a:solidFill>
            <a:srgbClr val="00009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Box 20"/>
          <p:cNvSpPr/>
          <p:nvPr/>
        </p:nvSpPr>
        <p:spPr>
          <a:xfrm>
            <a:off x="7749360" y="449568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4" name="Straight Arrow Connector 21"/>
          <p:cNvCxnSpPr>
            <a:stCxn id="847" idx="3"/>
            <a:endCxn id="849" idx="1"/>
          </p:cNvCxnSpPr>
          <p:nvPr/>
        </p:nvCxnSpPr>
        <p:spPr>
          <a:xfrm>
            <a:off x="6984720" y="4628880"/>
            <a:ext cx="407160" cy="13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55" name="Rectangle 26"/>
          <p:cNvSpPr/>
          <p:nvPr/>
        </p:nvSpPr>
        <p:spPr>
          <a:xfrm>
            <a:off x="2921040" y="7493040"/>
            <a:ext cx="5740200" cy="46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27"/>
          <p:cNvSpPr/>
          <p:nvPr/>
        </p:nvSpPr>
        <p:spPr>
          <a:xfrm>
            <a:off x="2921040" y="6946920"/>
            <a:ext cx="5740200" cy="46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ialization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Straight Connector 29"/>
          <p:cNvSpPr/>
          <p:nvPr/>
        </p:nvSpPr>
        <p:spPr>
          <a:xfrm flipH="1">
            <a:off x="2309400" y="2224080"/>
            <a:ext cx="3240" cy="595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37"/>
          <p:cNvSpPr/>
          <p:nvPr/>
        </p:nvSpPr>
        <p:spPr>
          <a:xfrm>
            <a:off x="190440" y="3657600"/>
            <a:ext cx="1879560" cy="749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End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38"/>
          <p:cNvSpPr/>
          <p:nvPr/>
        </p:nvSpPr>
        <p:spPr>
          <a:xfrm>
            <a:off x="190440" y="4826160"/>
            <a:ext cx="1879560" cy="749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 App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39"/>
          <p:cNvSpPr/>
          <p:nvPr/>
        </p:nvSpPr>
        <p:spPr>
          <a:xfrm>
            <a:off x="190440" y="5981760"/>
            <a:ext cx="1879560" cy="749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??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Over-the-Horizon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474840" y="2234880"/>
            <a:ext cx="818640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ull Enterprise Service Bu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filing of WS-* Standar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tended REST-full capabiliti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ols support for WSDLv2.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mantic Web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S enabled network devi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oud computi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del Driven Architectur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380F-6A36-4F44-9D18-0BB1D81DD7A5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012D-23FE-432C-B606-37B4FF9D909F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re Web Services approach based upon XML, SOAP, WSD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est practice based on the WS-I Basic Profile and support Profil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e, and separation, of interfaces and protocols to create flexible design for product innov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a rapidly changing area of technology so stay informe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License &amp; Acknowledgement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70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0DC0-4EF9-4D1B-9E84-019E65BC4ABC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2" name="Picture 8" descr="CCImage.tiff"/>
          <p:cNvPicPr/>
          <p:nvPr/>
        </p:nvPicPr>
        <p:blipFill>
          <a:blip r:embed="rId1"/>
          <a:stretch/>
        </p:blipFill>
        <p:spPr>
          <a:xfrm>
            <a:off x="1066680" y="2031840"/>
            <a:ext cx="6858000" cy="62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02DD-C9B7-4631-A37A-92FB44E4A1FF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Learning Objectiv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xplain what implementation technologies should be adopted in the short and mid ter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xplain the issues and concerns to be considered when looking to adopt Web Service solu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xplain how technical interoperability must be addressed to support innov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3FD3-95C1-4144-946C-73D4756B7C23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ore Web Technologi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3" name="Rectangle 4"/>
          <p:cNvSpPr/>
          <p:nvPr/>
        </p:nvSpPr>
        <p:spPr>
          <a:xfrm>
            <a:off x="774720" y="2865600"/>
            <a:ext cx="1398600" cy="78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051000" y="2865600"/>
            <a:ext cx="1432080" cy="787320"/>
          </a:xfrm>
          <a:prstGeom prst="rect">
            <a:avLst/>
          </a:prstGeom>
          <a:solidFill>
            <a:srgbClr val="4ff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7"/>
          <p:cNvSpPr/>
          <p:nvPr/>
        </p:nvSpPr>
        <p:spPr>
          <a:xfrm>
            <a:off x="5207040" y="2865600"/>
            <a:ext cx="1396800" cy="787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SD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8"/>
          <p:cNvSpPr/>
          <p:nvPr/>
        </p:nvSpPr>
        <p:spPr>
          <a:xfrm>
            <a:off x="7215120" y="2865600"/>
            <a:ext cx="1395360" cy="787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7" name="AutoShape 9"/>
          <p:cNvCxnSpPr>
            <a:stCxn id="643" idx="3"/>
            <a:endCxn id="644" idx="1"/>
          </p:cNvCxnSpPr>
          <p:nvPr/>
        </p:nvCxnSpPr>
        <p:spPr>
          <a:xfrm>
            <a:off x="2173320" y="3258720"/>
            <a:ext cx="87840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8" name="AutoShape 10"/>
          <p:cNvCxnSpPr>
            <a:stCxn id="644" idx="3"/>
            <a:endCxn id="645" idx="1"/>
          </p:cNvCxnSpPr>
          <p:nvPr/>
        </p:nvCxnSpPr>
        <p:spPr>
          <a:xfrm>
            <a:off x="4482720" y="3258720"/>
            <a:ext cx="7246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9" name="AutoShape 11"/>
          <p:cNvCxnSpPr>
            <a:stCxn id="645" idx="3"/>
            <a:endCxn id="646" idx="1"/>
          </p:cNvCxnSpPr>
          <p:nvPr/>
        </p:nvCxnSpPr>
        <p:spPr>
          <a:xfrm>
            <a:off x="6603840" y="3258720"/>
            <a:ext cx="61200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0" name="AutoShape 12"/>
          <p:cNvSpPr/>
          <p:nvPr/>
        </p:nvSpPr>
        <p:spPr>
          <a:xfrm>
            <a:off x="1270080" y="3962520"/>
            <a:ext cx="554040" cy="322200"/>
          </a:xfrm>
          <a:prstGeom prst="downArrow">
            <a:avLst>
              <a:gd name="adj1" fmla="val 50000"/>
              <a:gd name="adj2" fmla="val 2788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13"/>
          <p:cNvSpPr/>
          <p:nvPr/>
        </p:nvSpPr>
        <p:spPr>
          <a:xfrm>
            <a:off x="3492360" y="3962520"/>
            <a:ext cx="552600" cy="322200"/>
          </a:xfrm>
          <a:prstGeom prst="downArrow">
            <a:avLst>
              <a:gd name="adj1" fmla="val 50000"/>
              <a:gd name="adj2" fmla="val 2788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14"/>
          <p:cNvSpPr/>
          <p:nvPr/>
        </p:nvSpPr>
        <p:spPr>
          <a:xfrm>
            <a:off x="5548320" y="3962520"/>
            <a:ext cx="552600" cy="322200"/>
          </a:xfrm>
          <a:prstGeom prst="downArrow">
            <a:avLst>
              <a:gd name="adj1" fmla="val 50000"/>
              <a:gd name="adj2" fmla="val 2788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AutoShape 15"/>
          <p:cNvSpPr/>
          <p:nvPr/>
        </p:nvSpPr>
        <p:spPr>
          <a:xfrm>
            <a:off x="7580160" y="3962520"/>
            <a:ext cx="552600" cy="322200"/>
          </a:xfrm>
          <a:prstGeom prst="downArrow">
            <a:avLst>
              <a:gd name="adj1" fmla="val 50000"/>
              <a:gd name="adj2" fmla="val 2788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16"/>
          <p:cNvSpPr/>
          <p:nvPr/>
        </p:nvSpPr>
        <p:spPr>
          <a:xfrm>
            <a:off x="177840" y="4527720"/>
            <a:ext cx="279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re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17"/>
          <p:cNvSpPr/>
          <p:nvPr/>
        </p:nvSpPr>
        <p:spPr>
          <a:xfrm>
            <a:off x="2789280" y="4527720"/>
            <a:ext cx="202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mess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18"/>
          <p:cNvSpPr/>
          <p:nvPr/>
        </p:nvSpPr>
        <p:spPr>
          <a:xfrm>
            <a:off x="4838760" y="4540320"/>
            <a:ext cx="201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ss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19"/>
          <p:cNvSpPr/>
          <p:nvPr/>
        </p:nvSpPr>
        <p:spPr>
          <a:xfrm>
            <a:off x="7167600" y="4527720"/>
            <a:ext cx="163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4"/>
          <p:cNvSpPr/>
          <p:nvPr/>
        </p:nvSpPr>
        <p:spPr>
          <a:xfrm>
            <a:off x="711360" y="6459480"/>
            <a:ext cx="1398600" cy="78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6"/>
          <p:cNvSpPr/>
          <p:nvPr/>
        </p:nvSpPr>
        <p:spPr>
          <a:xfrm>
            <a:off x="2987640" y="6459480"/>
            <a:ext cx="1432080" cy="787320"/>
          </a:xfrm>
          <a:prstGeom prst="rect">
            <a:avLst/>
          </a:prstGeom>
          <a:solidFill>
            <a:srgbClr val="4ff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5143680" y="6459480"/>
            <a:ext cx="1396800" cy="787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D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1" name="AutoShape 9"/>
          <p:cNvCxnSpPr>
            <a:stCxn id="658" idx="3"/>
            <a:endCxn id="659" idx="1"/>
          </p:cNvCxnSpPr>
          <p:nvPr/>
        </p:nvCxnSpPr>
        <p:spPr>
          <a:xfrm>
            <a:off x="2109960" y="6853320"/>
            <a:ext cx="8784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2" name="AutoShape 10"/>
          <p:cNvCxnSpPr>
            <a:stCxn id="659" idx="3"/>
            <a:endCxn id="660" idx="1"/>
          </p:cNvCxnSpPr>
          <p:nvPr/>
        </p:nvCxnSpPr>
        <p:spPr>
          <a:xfrm>
            <a:off x="4419360" y="6853320"/>
            <a:ext cx="7246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3" name="AutoShape 12"/>
          <p:cNvSpPr/>
          <p:nvPr/>
        </p:nvSpPr>
        <p:spPr>
          <a:xfrm rot="10800000">
            <a:off x="1180800" y="5854320"/>
            <a:ext cx="554040" cy="322200"/>
          </a:xfrm>
          <a:prstGeom prst="downArrow">
            <a:avLst>
              <a:gd name="adj1" fmla="val 50000"/>
              <a:gd name="adj2" fmla="val 2788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AutoShape 12"/>
          <p:cNvSpPr/>
          <p:nvPr/>
        </p:nvSpPr>
        <p:spPr>
          <a:xfrm rot="10800000">
            <a:off x="3428640" y="5867280"/>
            <a:ext cx="554040" cy="322560"/>
          </a:xfrm>
          <a:prstGeom prst="downArrow">
            <a:avLst>
              <a:gd name="adj1" fmla="val 50000"/>
              <a:gd name="adj2" fmla="val 2788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12"/>
          <p:cNvSpPr/>
          <p:nvPr/>
        </p:nvSpPr>
        <p:spPr>
          <a:xfrm rot="10800000">
            <a:off x="5574960" y="5867280"/>
            <a:ext cx="554040" cy="322560"/>
          </a:xfrm>
          <a:prstGeom prst="downArrow">
            <a:avLst>
              <a:gd name="adj1" fmla="val 50000"/>
              <a:gd name="adj2" fmla="val 2788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A495-5D99-4F9A-BA19-F59C76D84E30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SOAP Messag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9" name="Rectangle 4"/>
          <p:cNvSpPr/>
          <p:nvPr/>
        </p:nvSpPr>
        <p:spPr>
          <a:xfrm>
            <a:off x="297000" y="2070000"/>
            <a:ext cx="4325760" cy="58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xtensible - support various WS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mote Procedure Call or document-based paylo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ault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vailable ver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OAP v1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OAP v1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Group 5"/>
          <p:cNvGrpSpPr/>
          <p:nvPr/>
        </p:nvGrpSpPr>
        <p:grpSpPr>
          <a:xfrm>
            <a:off x="4863960" y="1943280"/>
            <a:ext cx="3682800" cy="6120720"/>
            <a:chOff x="4863960" y="1943280"/>
            <a:chExt cx="3682800" cy="6120720"/>
          </a:xfrm>
        </p:grpSpPr>
        <p:sp>
          <p:nvSpPr>
            <p:cNvPr id="671" name="AutoShape 6"/>
            <p:cNvSpPr/>
            <p:nvPr/>
          </p:nvSpPr>
          <p:spPr>
            <a:xfrm rot="10800000">
              <a:off x="4863960" y="1943280"/>
              <a:ext cx="3682800" cy="6120720"/>
            </a:xfrm>
            <a:prstGeom prst="foldedCorner">
              <a:avLst>
                <a:gd name="adj" fmla="val 12500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AutoShape 7"/>
            <p:cNvSpPr/>
            <p:nvPr/>
          </p:nvSpPr>
          <p:spPr>
            <a:xfrm>
              <a:off x="5420880" y="2753640"/>
              <a:ext cx="2754360" cy="2266560"/>
            </a:xfrm>
            <a:prstGeom prst="flowChartDocumen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AutoShape 8"/>
            <p:cNvSpPr/>
            <p:nvPr/>
          </p:nvSpPr>
          <p:spPr>
            <a:xfrm>
              <a:off x="5447520" y="5321520"/>
              <a:ext cx="2754360" cy="2431080"/>
            </a:xfrm>
            <a:prstGeom prst="flowChartDocumen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AutoShape 9"/>
            <p:cNvSpPr/>
            <p:nvPr/>
          </p:nvSpPr>
          <p:spPr>
            <a:xfrm>
              <a:off x="5535360" y="3391200"/>
              <a:ext cx="2523240" cy="131220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10"/>
            <p:cNvSpPr/>
            <p:nvPr/>
          </p:nvSpPr>
          <p:spPr>
            <a:xfrm>
              <a:off x="5478840" y="1976400"/>
              <a:ext cx="26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OAP Envelo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Text Box 11"/>
            <p:cNvSpPr/>
            <p:nvPr/>
          </p:nvSpPr>
          <p:spPr>
            <a:xfrm>
              <a:off x="6368400" y="5349600"/>
              <a:ext cx="95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od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Text Box 12"/>
            <p:cNvSpPr/>
            <p:nvPr/>
          </p:nvSpPr>
          <p:spPr>
            <a:xfrm>
              <a:off x="6246720" y="2781720"/>
              <a:ext cx="12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ead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AutoShape 13"/>
            <p:cNvSpPr/>
            <p:nvPr/>
          </p:nvSpPr>
          <p:spPr>
            <a:xfrm>
              <a:off x="5573160" y="5993280"/>
              <a:ext cx="2523600" cy="1429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Text Box 14"/>
            <p:cNvSpPr/>
            <p:nvPr/>
          </p:nvSpPr>
          <p:spPr>
            <a:xfrm>
              <a:off x="5914800" y="6167520"/>
              <a:ext cx="1683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ayloa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ault Info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Text Box 15"/>
            <p:cNvSpPr/>
            <p:nvPr/>
          </p:nvSpPr>
          <p:spPr>
            <a:xfrm>
              <a:off x="5654160" y="3929400"/>
              <a:ext cx="222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eader block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1" name="Group 16"/>
            <p:cNvGrpSpPr/>
            <p:nvPr/>
          </p:nvGrpSpPr>
          <p:grpSpPr>
            <a:xfrm>
              <a:off x="6209280" y="3494520"/>
              <a:ext cx="1153440" cy="259200"/>
              <a:chOff x="6209280" y="3494520"/>
              <a:chExt cx="1153440" cy="259200"/>
            </a:xfrm>
          </p:grpSpPr>
          <p:sp>
            <p:nvSpPr>
              <p:cNvPr id="682" name="Rectangle 17"/>
              <p:cNvSpPr/>
              <p:nvPr/>
            </p:nvSpPr>
            <p:spPr>
              <a:xfrm>
                <a:off x="6209280" y="3494520"/>
                <a:ext cx="240480" cy="259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Rectangle 18"/>
              <p:cNvSpPr/>
              <p:nvPr/>
            </p:nvSpPr>
            <p:spPr>
              <a:xfrm>
                <a:off x="6437880" y="3494520"/>
                <a:ext cx="239760" cy="259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Rectangle 19"/>
              <p:cNvSpPr/>
              <p:nvPr/>
            </p:nvSpPr>
            <p:spPr>
              <a:xfrm>
                <a:off x="6666120" y="3494520"/>
                <a:ext cx="239760" cy="259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Rectangle 20"/>
              <p:cNvSpPr/>
              <p:nvPr/>
            </p:nvSpPr>
            <p:spPr>
              <a:xfrm>
                <a:off x="6894360" y="3494520"/>
                <a:ext cx="240480" cy="259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Rectangle 21"/>
              <p:cNvSpPr/>
              <p:nvPr/>
            </p:nvSpPr>
            <p:spPr>
              <a:xfrm>
                <a:off x="7122960" y="3494520"/>
                <a:ext cx="239760" cy="259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Group 22"/>
            <p:cNvGrpSpPr/>
            <p:nvPr/>
          </p:nvGrpSpPr>
          <p:grpSpPr>
            <a:xfrm>
              <a:off x="6209280" y="3741480"/>
              <a:ext cx="1153440" cy="259200"/>
              <a:chOff x="6209280" y="3741480"/>
              <a:chExt cx="1153440" cy="259200"/>
            </a:xfrm>
          </p:grpSpPr>
          <p:sp>
            <p:nvSpPr>
              <p:cNvPr id="688" name="Rectangle 23"/>
              <p:cNvSpPr/>
              <p:nvPr/>
            </p:nvSpPr>
            <p:spPr>
              <a:xfrm>
                <a:off x="6209280" y="3741480"/>
                <a:ext cx="240480" cy="259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Rectangle 24"/>
              <p:cNvSpPr/>
              <p:nvPr/>
            </p:nvSpPr>
            <p:spPr>
              <a:xfrm>
                <a:off x="6437880" y="3741480"/>
                <a:ext cx="239760" cy="259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Rectangle 25"/>
              <p:cNvSpPr/>
              <p:nvPr/>
            </p:nvSpPr>
            <p:spPr>
              <a:xfrm>
                <a:off x="6666120" y="3741480"/>
                <a:ext cx="239760" cy="259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Rectangle 26"/>
              <p:cNvSpPr/>
              <p:nvPr/>
            </p:nvSpPr>
            <p:spPr>
              <a:xfrm>
                <a:off x="6894360" y="3741480"/>
                <a:ext cx="240480" cy="259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Rectangle 27"/>
              <p:cNvSpPr/>
              <p:nvPr/>
            </p:nvSpPr>
            <p:spPr>
              <a:xfrm>
                <a:off x="7122960" y="3741480"/>
                <a:ext cx="239760" cy="259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1AD2-B7AD-46B0-985C-7A2600E31524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Times New Roman"/>
              </a:rPr>
              <a:t>Web Services Description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96" name="Rectangle 17"/>
          <p:cNvSpPr/>
          <p:nvPr/>
        </p:nvSpPr>
        <p:spPr>
          <a:xfrm>
            <a:off x="5641920" y="6103800"/>
            <a:ext cx="72864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5"/>
          <p:cNvSpPr/>
          <p:nvPr/>
        </p:nvSpPr>
        <p:spPr>
          <a:xfrm rot="16200000">
            <a:off x="27360" y="6205320"/>
            <a:ext cx="162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-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6"/>
          <p:cNvSpPr/>
          <p:nvPr/>
        </p:nvSpPr>
        <p:spPr>
          <a:xfrm rot="16200000">
            <a:off x="135000" y="3925800"/>
            <a:ext cx="14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Oval 7"/>
          <p:cNvSpPr/>
          <p:nvPr/>
        </p:nvSpPr>
        <p:spPr>
          <a:xfrm>
            <a:off x="1371600" y="6281640"/>
            <a:ext cx="2006640" cy="1020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10"/>
          <p:cNvSpPr/>
          <p:nvPr/>
        </p:nvSpPr>
        <p:spPr>
          <a:xfrm>
            <a:off x="1587600" y="3124080"/>
            <a:ext cx="6908760" cy="2227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AutoShape 11"/>
          <p:cNvSpPr/>
          <p:nvPr/>
        </p:nvSpPr>
        <p:spPr>
          <a:xfrm>
            <a:off x="3200400" y="6262560"/>
            <a:ext cx="3570120" cy="150840"/>
          </a:xfrm>
          <a:prstGeom prst="rightArrow">
            <a:avLst>
              <a:gd name="adj1" fmla="val 60435"/>
              <a:gd name="adj2" fmla="val 14989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AutoShape 12"/>
          <p:cNvSpPr/>
          <p:nvPr/>
        </p:nvSpPr>
        <p:spPr>
          <a:xfrm flipH="1">
            <a:off x="3225960" y="7010280"/>
            <a:ext cx="3473280" cy="139680"/>
          </a:xfrm>
          <a:prstGeom prst="rightArrow">
            <a:avLst>
              <a:gd name="adj1" fmla="val 60435"/>
              <a:gd name="adj2" fmla="val 15817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tangle 13"/>
          <p:cNvSpPr/>
          <p:nvPr/>
        </p:nvSpPr>
        <p:spPr>
          <a:xfrm>
            <a:off x="3484440" y="6019920"/>
            <a:ext cx="1163880" cy="65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Rectangle 15"/>
          <p:cNvSpPr/>
          <p:nvPr/>
        </p:nvSpPr>
        <p:spPr>
          <a:xfrm>
            <a:off x="3460680" y="6730920"/>
            <a:ext cx="1162080" cy="69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16"/>
          <p:cNvSpPr/>
          <p:nvPr/>
        </p:nvSpPr>
        <p:spPr>
          <a:xfrm>
            <a:off x="3543840" y="7435800"/>
            <a:ext cx="9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Line 19"/>
          <p:cNvSpPr/>
          <p:nvPr/>
        </p:nvSpPr>
        <p:spPr>
          <a:xfrm>
            <a:off x="2306520" y="5351400"/>
            <a:ext cx="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20"/>
          <p:cNvSpPr/>
          <p:nvPr/>
        </p:nvSpPr>
        <p:spPr>
          <a:xfrm>
            <a:off x="6853320" y="3240000"/>
            <a:ext cx="1515960" cy="20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21"/>
          <p:cNvSpPr/>
          <p:nvPr/>
        </p:nvSpPr>
        <p:spPr>
          <a:xfrm>
            <a:off x="2806560" y="3238560"/>
            <a:ext cx="2489400" cy="20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Typ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9" name="AutoShape 22"/>
          <p:cNvCxnSpPr>
            <a:stCxn id="707" idx="2"/>
            <a:endCxn id="710" idx="0"/>
          </p:cNvCxnSpPr>
          <p:nvPr/>
        </p:nvCxnSpPr>
        <p:spPr>
          <a:xfrm flipH="1">
            <a:off x="7606800" y="5267160"/>
            <a:ext cx="5760" cy="990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1" name="Rectangle 23"/>
          <p:cNvSpPr/>
          <p:nvPr/>
        </p:nvSpPr>
        <p:spPr>
          <a:xfrm>
            <a:off x="5102280" y="3238560"/>
            <a:ext cx="1801800" cy="20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ransp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2" name="AutoShape 24"/>
          <p:cNvCxnSpPr>
            <a:stCxn id="711" idx="2"/>
            <a:endCxn id="696" idx="0"/>
          </p:cNvCxnSpPr>
          <p:nvPr/>
        </p:nvCxnSpPr>
        <p:spPr>
          <a:xfrm>
            <a:off x="6001200" y="5265720"/>
            <a:ext cx="3960" cy="838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AutoShape 25"/>
          <p:cNvCxnSpPr>
            <a:stCxn id="708" idx="2"/>
            <a:endCxn id="703" idx="0"/>
          </p:cNvCxnSpPr>
          <p:nvPr/>
        </p:nvCxnSpPr>
        <p:spPr>
          <a:xfrm>
            <a:off x="4051440" y="5265360"/>
            <a:ext cx="16560" cy="754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4" name="Text Box 26"/>
          <p:cNvSpPr/>
          <p:nvPr/>
        </p:nvSpPr>
        <p:spPr>
          <a:xfrm>
            <a:off x="1605960" y="309888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S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Oval 9"/>
          <p:cNvSpPr/>
          <p:nvPr/>
        </p:nvSpPr>
        <p:spPr>
          <a:xfrm>
            <a:off x="6616800" y="6256440"/>
            <a:ext cx="1981080" cy="10332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16"/>
          <p:cNvSpPr/>
          <p:nvPr/>
        </p:nvSpPr>
        <p:spPr>
          <a:xfrm>
            <a:off x="851760" y="2368440"/>
            <a:ext cx="803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b Services Description Language (WSD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337D-2190-4D91-AAE4-F81C2DC35DF3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WS-I Organization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474480" y="2234880"/>
            <a:ext cx="475740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eb Services Interoperabil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stablish consensus on best practice adoption of Web Service standards from W3C and OAS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S-I Basic Profile 1.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ofiling of the W3C Specif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ynchronous communications mod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further Basic Profiles under developmen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2 – inc. WS-Address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0 – SOAPv1.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5494320" y="2197080"/>
          <a:ext cx="3009960" cy="5499000"/>
        </p:xfrm>
        <a:graphic>
          <a:graphicData uri="http://schemas.openxmlformats.org/drawingml/2006/table">
            <a:tbl>
              <a:tblPr/>
              <a:tblGrid>
                <a:gridCol w="3009960"/>
              </a:tblGrid>
              <a:tr h="110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ML schema v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10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APv1.1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TTPv1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10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SDLv1.1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10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DDIv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721" name="AutoShape 19"/>
          <p:cNvSpPr/>
          <p:nvPr/>
        </p:nvSpPr>
        <p:spPr>
          <a:xfrm>
            <a:off x="4622760" y="4346640"/>
            <a:ext cx="660600" cy="771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DF51-5AB1-4E4F-A5DF-8A2B359F2AEC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reating and Deploying Servic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reate a WSDL description (adopt interop best practice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Generate service implementation from the WSDL (use appropriate tools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nstall the service using a Web Server e.g. Apach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Make the WSDL available for Client implementa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33F7-99C0-419C-84FD-776BA6B0BC14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0360" y="1299960"/>
            <a:ext cx="815364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WS-* Standard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graphicFrame>
        <p:nvGraphicFramePr>
          <p:cNvPr id="729" name=""/>
          <p:cNvGraphicFramePr/>
          <p:nvPr/>
        </p:nvGraphicFramePr>
        <p:xfrm>
          <a:off x="393840" y="4127400"/>
          <a:ext cx="8204040" cy="4230720"/>
        </p:xfrm>
        <a:graphic>
          <a:graphicData uri="http://schemas.openxmlformats.org/drawingml/2006/table">
            <a:tbl>
              <a:tblPr/>
              <a:tblGrid>
                <a:gridCol w="2571480"/>
                <a:gridCol w="5632560"/>
              </a:tblGrid>
              <a:tr h="58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S Standa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T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ssage Transmission Optimisation Mechanism for sending non-XML d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S-Address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d-point address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S-Secur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urity framework for authentication and authoris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S-Poli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taching policy data to messag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P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ice composition using the Business Process Execution Langu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0" name="Rectangle 5"/>
          <p:cNvSpPr/>
          <p:nvPr/>
        </p:nvSpPr>
        <p:spPr>
          <a:xfrm>
            <a:off x="474840" y="2235240"/>
            <a:ext cx="8135640" cy="22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cond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eneration Web Services (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S-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 extend the capability of the core Web Serv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A5F8-98CB-4B8D-827A-8141EAF7EA38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Web Services Stack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34" name="Rectangle 4"/>
          <p:cNvSpPr/>
          <p:nvPr/>
        </p:nvSpPr>
        <p:spPr>
          <a:xfrm>
            <a:off x="1828800" y="7137360"/>
            <a:ext cx="5375160" cy="754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, SMTP, FTP, IIOP, J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6"/>
          <p:cNvSpPr/>
          <p:nvPr/>
        </p:nvSpPr>
        <p:spPr>
          <a:xfrm>
            <a:off x="441360" y="2425680"/>
            <a:ext cx="1336680" cy="54482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7"/>
          <p:cNvSpPr/>
          <p:nvPr/>
        </p:nvSpPr>
        <p:spPr>
          <a:xfrm>
            <a:off x="612360" y="751824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8"/>
          <p:cNvSpPr/>
          <p:nvPr/>
        </p:nvSpPr>
        <p:spPr>
          <a:xfrm>
            <a:off x="7265880" y="2427120"/>
            <a:ext cx="1336680" cy="54468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9"/>
          <p:cNvSpPr/>
          <p:nvPr/>
        </p:nvSpPr>
        <p:spPr>
          <a:xfrm>
            <a:off x="1838160" y="2425680"/>
            <a:ext cx="5348520" cy="4572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10"/>
          <p:cNvSpPr/>
          <p:nvPr/>
        </p:nvSpPr>
        <p:spPr>
          <a:xfrm>
            <a:off x="2262240" y="4508640"/>
            <a:ext cx="4857840" cy="229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Rectangle 11"/>
          <p:cNvSpPr/>
          <p:nvPr/>
        </p:nvSpPr>
        <p:spPr>
          <a:xfrm>
            <a:off x="2316240" y="6291360"/>
            <a:ext cx="4697280" cy="439560"/>
          </a:xfrm>
          <a:prstGeom prst="rect">
            <a:avLst/>
          </a:prstGeom>
          <a:solidFill>
            <a:srgbClr val="4ff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AP (v1.1 &amp; v1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Rectangle 12"/>
          <p:cNvSpPr/>
          <p:nvPr/>
        </p:nvSpPr>
        <p:spPr>
          <a:xfrm>
            <a:off x="2333520" y="4940280"/>
            <a:ext cx="4680000" cy="1244520"/>
          </a:xfrm>
          <a:prstGeom prst="rect">
            <a:avLst/>
          </a:prstGeom>
          <a:solidFill>
            <a:srgbClr val="4ff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Rectangle 13"/>
          <p:cNvSpPr/>
          <p:nvPr/>
        </p:nvSpPr>
        <p:spPr>
          <a:xfrm>
            <a:off x="3717360" y="4940280"/>
            <a:ext cx="20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AP Exten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Rectangle 14"/>
          <p:cNvSpPr/>
          <p:nvPr/>
        </p:nvSpPr>
        <p:spPr>
          <a:xfrm>
            <a:off x="2260440" y="3608280"/>
            <a:ext cx="4857840" cy="82404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cri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SDL (v1.1 &amp; 2.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15"/>
          <p:cNvSpPr/>
          <p:nvPr/>
        </p:nvSpPr>
        <p:spPr>
          <a:xfrm>
            <a:off x="4154400" y="44578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16"/>
          <p:cNvSpPr/>
          <p:nvPr/>
        </p:nvSpPr>
        <p:spPr>
          <a:xfrm rot="16200000">
            <a:off x="-49680" y="4538520"/>
            <a:ext cx="42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sic Technologies XML, DTD, XS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17"/>
          <p:cNvSpPr/>
          <p:nvPr/>
        </p:nvSpPr>
        <p:spPr>
          <a:xfrm>
            <a:off x="2416320" y="5450040"/>
            <a:ext cx="796680" cy="64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19"/>
          <p:cNvSpPr/>
          <p:nvPr/>
        </p:nvSpPr>
        <p:spPr>
          <a:xfrm>
            <a:off x="3286080" y="5442120"/>
            <a:ext cx="797040" cy="64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S-Atom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20"/>
          <p:cNvSpPr/>
          <p:nvPr/>
        </p:nvSpPr>
        <p:spPr>
          <a:xfrm>
            <a:off x="4157640" y="5450040"/>
            <a:ext cx="839880" cy="64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S-Rel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ssa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21"/>
          <p:cNvSpPr/>
          <p:nvPr/>
        </p:nvSpPr>
        <p:spPr>
          <a:xfrm>
            <a:off x="547560" y="2511360"/>
            <a:ext cx="1111320" cy="84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22"/>
          <p:cNvSpPr/>
          <p:nvPr/>
        </p:nvSpPr>
        <p:spPr>
          <a:xfrm>
            <a:off x="533520" y="3408480"/>
            <a:ext cx="1110960" cy="83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23"/>
          <p:cNvSpPr/>
          <p:nvPr/>
        </p:nvSpPr>
        <p:spPr>
          <a:xfrm>
            <a:off x="7350120" y="2509920"/>
            <a:ext cx="1170000" cy="84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24"/>
          <p:cNvSpPr/>
          <p:nvPr/>
        </p:nvSpPr>
        <p:spPr>
          <a:xfrm>
            <a:off x="5072040" y="5440320"/>
            <a:ext cx="83988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r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25"/>
          <p:cNvSpPr/>
          <p:nvPr/>
        </p:nvSpPr>
        <p:spPr>
          <a:xfrm>
            <a:off x="7350120" y="3441600"/>
            <a:ext cx="1170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26"/>
          <p:cNvSpPr/>
          <p:nvPr/>
        </p:nvSpPr>
        <p:spPr>
          <a:xfrm>
            <a:off x="7202520" y="75261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Rectangle 27"/>
          <p:cNvSpPr/>
          <p:nvPr/>
        </p:nvSpPr>
        <p:spPr>
          <a:xfrm>
            <a:off x="2252520" y="2492280"/>
            <a:ext cx="4857840" cy="10540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Rectangle 28"/>
          <p:cNvSpPr/>
          <p:nvPr/>
        </p:nvSpPr>
        <p:spPr>
          <a:xfrm>
            <a:off x="4208040" y="244152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Rectangle 30"/>
          <p:cNvSpPr/>
          <p:nvPr/>
        </p:nvSpPr>
        <p:spPr>
          <a:xfrm>
            <a:off x="2336760" y="2870280"/>
            <a:ext cx="13255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o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31"/>
          <p:cNvSpPr/>
          <p:nvPr/>
        </p:nvSpPr>
        <p:spPr>
          <a:xfrm>
            <a:off x="3754440" y="2870280"/>
            <a:ext cx="7970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P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Rectangle 32"/>
          <p:cNvSpPr/>
          <p:nvPr/>
        </p:nvSpPr>
        <p:spPr>
          <a:xfrm>
            <a:off x="5986440" y="5448240"/>
            <a:ext cx="94932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S-Re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Rectangle 33"/>
          <p:cNvSpPr/>
          <p:nvPr/>
        </p:nvSpPr>
        <p:spPr>
          <a:xfrm>
            <a:off x="5545080" y="2870280"/>
            <a:ext cx="14652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34"/>
          <p:cNvSpPr/>
          <p:nvPr/>
        </p:nvSpPr>
        <p:spPr>
          <a:xfrm>
            <a:off x="4643280" y="2870280"/>
            <a:ext cx="7970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D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0:30:08Z</dcterms:created>
  <dc:creator>C Smythe</dc:creator>
  <dc:description/>
  <dc:language>en-US</dc:language>
  <cp:lastModifiedBy>Colin Smythe</cp:lastModifiedBy>
  <cp:lastPrinted>2008-02-19T11:08:18Z</cp:lastPrinted>
  <dcterms:modified xsi:type="dcterms:W3CDTF">2009-05-20T20:26:50Z</dcterms:modified>
  <cp:revision>268</cp:revision>
  <dc:subject/>
  <dc:title>No Slide Title</dc:title>
</cp:coreProperties>
</file>